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D67D0-38D7-48B8-834C-A20A087F0F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8616-96B7-4DFD-906D-4D02DC4A0BB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A7F9-2B13-446C-8F07-E75683C81E4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851D-E6CC-4B5A-954E-8A7E519A2AA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79E8-8D43-436B-9511-B0250445F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DA20-63F5-48FB-AC3F-22BC755C32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02C8-877F-4E58-8D82-DF6270CFCC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DD2D-E274-495B-89D4-1C085180872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8D66-C88D-4CD5-AAC5-3AD4F05BB2D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2B2E-2E97-49B5-86E6-8D573A01D4D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7ACB-5B45-4FAE-BBD2-367E78C7D35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F4E62-B57B-4094-8E57-5ACC0AC3770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46080" cy="87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939920" y="7251840"/>
            <a:ext cx="266760" cy="27936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08CB-DD0F-48C9-AAC8-646994E5F46B}" type="slidenum">
              <a:rPr b="0" lang="en-US" sz="14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"/>
          <p:cNvSpPr/>
          <p:nvPr/>
        </p:nvSpPr>
        <p:spPr>
          <a:xfrm>
            <a:off x="8445600" y="7207200"/>
            <a:ext cx="1587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7000"/>
          </a:bodyPr>
          <a:p>
            <a:pPr marL="624960" indent="-42300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3512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444600" y="383508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83000"/>
          </a:bodyPr>
          <a:p>
            <a:pPr marL="208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44600" y="119376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0000"/>
          </a:bodyPr>
          <a:p>
            <a:pPr marL="51552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8984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6416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34856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67000"/>
          </a:bodyPr>
          <a:p>
            <a:pPr marL="43164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132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89100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12932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0000"/>
          </a:bodyPr>
          <a:p>
            <a:pPr marL="51552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8984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6416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34856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moku.com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ninformed.org/" TargetMode="External"/><Relationship Id="rId3" Type="http://schemas.openxmlformats.org/officeDocument/2006/relationships/hyperlink" Target="http://www.uninformed.org/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2877840"/>
            <a:ext cx="10159920" cy="847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: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otki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lysi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tificatio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6444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ie Butler &amp; Peter Silber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17E7-3668-4D8E-92ED-D8C131A5A19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ing in Kernel Sp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erating system is glob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rely on process co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 when portions of a driver are page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ltering a single piece of code or a single pointer to code, the rootkit subverts every process o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4BC20-D948-42C2-9530-197082B22A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"/>
          <p:cNvSpPr/>
          <p:nvPr/>
        </p:nvSpPr>
        <p:spPr>
          <a:xfrm>
            <a:off x="6255720" y="971640"/>
            <a:ext cx="2128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SystemServic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5767200" y="1185840"/>
            <a:ext cx="507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"/>
          <p:cNvSpPr/>
          <p:nvPr/>
        </p:nvSpPr>
        <p:spPr>
          <a:xfrm>
            <a:off x="7470720" y="475776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"/>
          <p:cNvSpPr/>
          <p:nvPr/>
        </p:nvSpPr>
        <p:spPr>
          <a:xfrm>
            <a:off x="6773760" y="3726000"/>
            <a:ext cx="270828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"/>
          <p:cNvSpPr/>
          <p:nvPr/>
        </p:nvSpPr>
        <p:spPr>
          <a:xfrm>
            <a:off x="6773760" y="3809880"/>
            <a:ext cx="1184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"/>
          <p:cNvSpPr/>
          <p:nvPr/>
        </p:nvSpPr>
        <p:spPr>
          <a:xfrm>
            <a:off x="7620120" y="3809880"/>
            <a:ext cx="1778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"/>
          <p:cNvSpPr/>
          <p:nvPr/>
        </p:nvSpPr>
        <p:spPr>
          <a:xfrm>
            <a:off x="5504040" y="3132000"/>
            <a:ext cx="1269720" cy="1609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"/>
          <p:cNvSpPr/>
          <p:nvPr/>
        </p:nvSpPr>
        <p:spPr>
          <a:xfrm>
            <a:off x="6350040" y="2878200"/>
            <a:ext cx="3132000" cy="847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5CA6-280F-4C42-A5A0-1A0FDFF6EE9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"/>
          <p:cNvSpPr/>
          <p:nvPr/>
        </p:nvSpPr>
        <p:spPr>
          <a:xfrm>
            <a:off x="7027920" y="76212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"/>
          <p:cNvSpPr/>
          <p:nvPr/>
        </p:nvSpPr>
        <p:spPr>
          <a:xfrm>
            <a:off x="7142040" y="1015920"/>
            <a:ext cx="816120" cy="424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"/>
          <p:cNvSpPr/>
          <p:nvPr/>
        </p:nvSpPr>
        <p:spPr>
          <a:xfrm>
            <a:off x="7110000" y="169380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6180120" y="1269720"/>
            <a:ext cx="1185840" cy="1608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557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7111440" y="36399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"/>
          <p:cNvSpPr/>
          <p:nvPr/>
        </p:nvSpPr>
        <p:spPr>
          <a:xfrm>
            <a:off x="6773760" y="3726000"/>
            <a:ext cx="270828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"/>
          <p:cNvSpPr/>
          <p:nvPr/>
        </p:nvSpPr>
        <p:spPr>
          <a:xfrm>
            <a:off x="6773760" y="3809880"/>
            <a:ext cx="1184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"/>
          <p:cNvSpPr/>
          <p:nvPr/>
        </p:nvSpPr>
        <p:spPr>
          <a:xfrm>
            <a:off x="7620120" y="3809880"/>
            <a:ext cx="1778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"/>
          <p:cNvSpPr/>
          <p:nvPr/>
        </p:nvSpPr>
        <p:spPr>
          <a:xfrm>
            <a:off x="5504040" y="3132000"/>
            <a:ext cx="1269720" cy="1609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"/>
          <p:cNvSpPr/>
          <p:nvPr/>
        </p:nvSpPr>
        <p:spPr>
          <a:xfrm>
            <a:off x="6350040" y="2878200"/>
            <a:ext cx="3132000" cy="847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7B9A-E08B-44EC-B059-A042429B51D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7027920" y="406404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557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>
            <a:off x="7280280" y="56721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>
            <a:off x="6180120" y="2878200"/>
            <a:ext cx="1355760" cy="1523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"/>
          <p:cNvSpPr/>
          <p:nvPr/>
        </p:nvSpPr>
        <p:spPr>
          <a:xfrm>
            <a:off x="7027920" y="76212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"/>
          <p:cNvSpPr/>
          <p:nvPr/>
        </p:nvSpPr>
        <p:spPr>
          <a:xfrm>
            <a:off x="7142040" y="1015920"/>
            <a:ext cx="816120" cy="424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>
            <a:off x="7110000" y="169380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"/>
          <p:cNvSpPr/>
          <p:nvPr/>
        </p:nvSpPr>
        <p:spPr>
          <a:xfrm>
            <a:off x="7111440" y="36399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C5D0-6DB2-4035-9478-EC18F002145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7281720" y="677880"/>
            <a:ext cx="2422800" cy="237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"/>
          <p:cNvSpPr/>
          <p:nvPr/>
        </p:nvSpPr>
        <p:spPr>
          <a:xfrm>
            <a:off x="592200" y="762120"/>
            <a:ext cx="2625840" cy="338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1440000"/>
            <a:ext cx="2286000" cy="1438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>
            <a:off x="846000" y="1573200"/>
            <a:ext cx="26258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4910040" y="2963880"/>
            <a:ext cx="932040" cy="2454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4910040" y="3301920"/>
            <a:ext cx="932040" cy="338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4317840" y="3301920"/>
            <a:ext cx="932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7377120" y="846000"/>
            <a:ext cx="2200320" cy="1440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7461360" y="932040"/>
            <a:ext cx="20318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t!NtCreateFile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jmp 0008:11223344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[…]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6519960" y="3471840"/>
            <a:ext cx="3132000" cy="211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>
            <a:off x="6688080" y="3639960"/>
            <a:ext cx="2625840" cy="177804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6942240" y="3726000"/>
            <a:ext cx="25398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…]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v     edi,edi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v     ebp,esp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mp nt!NtCreateFile+08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725760" y="101592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709720" y="1353960"/>
            <a:ext cx="2370240" cy="339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4995720" y="1440000"/>
            <a:ext cx="168480" cy="194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7374240" y="254016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>
            <a:off x="4826160" y="5334120"/>
            <a:ext cx="15238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757840" y="1777680"/>
            <a:ext cx="177804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7280280" y="56721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7027560" y="2116080"/>
            <a:ext cx="50796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873920" y="1608120"/>
            <a:ext cx="424080" cy="220176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FE81-070F-4111-ACF4-E7A7C2BB468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/O Manager and IRP Hoo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calls used to send com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DeviceIoControl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Write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s are converted to I/O Request Packets (IR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Ps are delivered to lower leve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2B9F1-1B1E-443E-A595-EBCAB9FEF0C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/O Manager and IRP Hoo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driver is represented by a DRIVER_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Ps are handled by a set of 28 function pointers within the DRIVER_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ootkit can hook one of these function pointers to gai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D251-6B52-4E75-BBE1-99640A0F6F7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rupt Descriptor Table Hoo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CPU has an I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T contains pointers to Interrupt Service Routines (IS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for IDT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over the virtual memory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step the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cept keystro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09C2-D9A5-4CD8-B518-008693D7DF7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2000"/>
          </a:bodyPr>
          <a:p>
            <a:pPr marL="59256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hide a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 the EPROCESS block of the process to h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the process behind it to point to the process after the process you are hi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the process after it to point to the process before the one you are trying to h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Privileges to 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Groups to 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ipulate the Token to Fool the Windows Event 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e 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4148-A67F-43AB-BC66-34008D45DB0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ing Processes - Windo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413080" y="6781680"/>
            <a:ext cx="5249520" cy="339480"/>
            <a:chOff x="2413080" y="6781680"/>
            <a:chExt cx="5249520" cy="339480"/>
          </a:xfrm>
        </p:grpSpPr>
        <p:sp>
          <p:nvSpPr>
            <p:cNvPr id="555" name=""/>
            <p:cNvSpPr/>
            <p:nvPr/>
          </p:nvSpPr>
          <p:spPr>
            <a:xfrm>
              <a:off x="2481480" y="7090560"/>
              <a:ext cx="5181120" cy="30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584120" y="6781680"/>
              <a:ext cx="68400" cy="306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13080" y="6842880"/>
              <a:ext cx="137520" cy="278280"/>
            </a:xfrm>
            <a:prstGeom prst="upArrow">
              <a:avLst>
                <a:gd name="adj1" fmla="val 50000"/>
                <a:gd name="adj2" fmla="val 5058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aphicFrame>
        <p:nvGraphicFramePr>
          <p:cNvPr id="558" name=""/>
          <p:cNvGraphicFramePr/>
          <p:nvPr/>
        </p:nvGraphicFramePr>
        <p:xfrm>
          <a:off x="2184480" y="1676520"/>
          <a:ext cx="5962680" cy="508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84480" y="1676520"/>
                    <a:ext cx="596268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0" name=""/>
          <p:cNvGrpSpPr/>
          <p:nvPr/>
        </p:nvGrpSpPr>
        <p:grpSpPr>
          <a:xfrm>
            <a:off x="2336760" y="4572000"/>
            <a:ext cx="5105520" cy="1404720"/>
            <a:chOff x="2336760" y="4572000"/>
            <a:chExt cx="5105520" cy="1404720"/>
          </a:xfrm>
        </p:grpSpPr>
        <p:sp>
          <p:nvSpPr>
            <p:cNvPr id="561" name=""/>
            <p:cNvSpPr/>
            <p:nvPr/>
          </p:nvSpPr>
          <p:spPr>
            <a:xfrm rot="5400000">
              <a:off x="6653880" y="5188320"/>
              <a:ext cx="1404720" cy="172080"/>
            </a:xfrm>
            <a:prstGeom prst="rightArrow">
              <a:avLst>
                <a:gd name="adj1" fmla="val 50000"/>
                <a:gd name="adj2" fmla="val 20407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36760" y="4572000"/>
              <a:ext cx="5048280" cy="1371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36760" y="4572000"/>
              <a:ext cx="57240" cy="137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F0F9-46D9-4F52-A5D8-6F40036D0FFD}" type="slidenum">
              <a:t>1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Are W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ter Silber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phomore College Stud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pendent Security Research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 of FU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ibutor to openRCE.org (VISIT THE SI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mie But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O of Komoku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komoku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atte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tkit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 o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otkits: Subverting the Windows Ker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author of Shadow Walker proof-of-concept memory subversion rootk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oneer of Direct Kernel Object Manipulation (DK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91709-9872-4FEA-814B-59756F45025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To – Hiding From the T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o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nformed Journal Vol. 3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uninformed.or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version of FU hence the ‘To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es from IceSword and Black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light patched on 2/17/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s itself from the PspCid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9B8D-D465-4B55-AB07-BD124FCFD91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spCidTable (PspPidTabl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pCid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of PspCidTable is to keep track of all the processes and threa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pCidTable’s indexes are the PIDs of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s the address of the EPROCESS of a process at the location corresponding to the P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ying on a single data structure is not a very rob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ltering one data structure much of the OS has no idea the hidden process exi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9FC5-016A-4990-B558-E0F5C0DC4F0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rnel Structures: The T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7960" y="1143000"/>
            <a:ext cx="9220320" cy="601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8000"/>
          </a:bodyPr>
          <a:p>
            <a:pPr marL="631440" indent="-427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e T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es are an index into the Handle Table for a particular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represent processes, threads, tokens, events, port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 Manager must do the translation from a handle to an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 Manager consults the Security Reference Monitor to determine access to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process has its own handle table to keep track of the handles it ow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3AAB-7969-41A0-AE5D-D34F94BE0DF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423360"/>
            <a:ext cx="10159920" cy="762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rnel Structures: Handle T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636040" cy="582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5000"/>
          </a:bodyPr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kd&gt; dt nt!_HANDLE_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00 TableCode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04 QuotaProcess                  : Ptr32 _E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08 UniqueProcessId            : Ptr32 Vo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0c HandleTableLock           : [4] _EX_PUSH_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1c HandleTableList             : _LIST_EN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4 HandleContentionEvent : _EX_PUSH_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8 DebugInfo                      : Ptr32 _HANDLE_TRACE_DEBUG_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c ExtraInfoPages               : 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0 FirstFree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4 LastFree 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8 NextHandleNeedingPool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c HandleCount                   : 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40 Flags      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40 StrictFIFO                      : Pos 0, 1 B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C3B3-F82E-4E60-9C6A-CD6E0A8C914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le Table Trans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06440" y="2924280"/>
            <a:ext cx="3065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290520" y="1523880"/>
            <a:ext cx="4451400" cy="2963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"/>
          <p:cNvSpPr/>
          <p:nvPr/>
        </p:nvSpPr>
        <p:spPr>
          <a:xfrm>
            <a:off x="338040" y="1778040"/>
            <a:ext cx="4488120" cy="25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est.exe ProcessId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ANDLE hProcess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OpenProcess(PROCESS_ALL_ACCESS, 0, 132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hProcess == INVALID_HANDLE)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TerminateProcess(hProcess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"/>
          <p:cNvSpPr/>
          <p:nvPr/>
        </p:nvSpPr>
        <p:spPr>
          <a:xfrm>
            <a:off x="4826160" y="1185840"/>
            <a:ext cx="338040" cy="5842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>
            <a:off x="1608120" y="4038480"/>
            <a:ext cx="1015920" cy="1524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592200" y="5587920"/>
            <a:ext cx="330192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ZwTerminateProcess(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639960" y="1947600"/>
            <a:ext cx="2202120" cy="3724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"/>
          <p:cNvSpPr/>
          <p:nvPr/>
        </p:nvSpPr>
        <p:spPr>
          <a:xfrm>
            <a:off x="5842080" y="1185840"/>
            <a:ext cx="3301920" cy="695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NtTerminateProcess: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VOID obj = TranslateHandleToObject(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" name=""/>
          <p:cNvSpPr/>
          <p:nvPr/>
        </p:nvSpPr>
        <p:spPr>
          <a:xfrm>
            <a:off x="5418000" y="5079960"/>
            <a:ext cx="4572000" cy="3380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" name=""/>
          <p:cNvSpPr/>
          <p:nvPr/>
        </p:nvSpPr>
        <p:spPr>
          <a:xfrm>
            <a:off x="5672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"/>
          <p:cNvSpPr/>
          <p:nvPr/>
        </p:nvSpPr>
        <p:spPr>
          <a:xfrm>
            <a:off x="6012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62658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66038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>
            <a:off x="69422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>
            <a:off x="72817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76201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7958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8298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86360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897408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93139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96519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0" y="4572000"/>
            <a:ext cx="211608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0x03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>
            <a:off x="6434280" y="3979800"/>
            <a:ext cx="0" cy="1015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6265800" y="5079960"/>
            <a:ext cx="338040" cy="338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6434280" y="5334120"/>
            <a:ext cx="507960" cy="1185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5418000" y="55040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 1  2  3  ..  .. .. .. 80 81  82  83 84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6095880" y="6519960"/>
            <a:ext cx="2455920" cy="902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Type = OBJ_PROCESS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        = 0x8014231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5334120" y="3832200"/>
            <a:ext cx="4572000" cy="33984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55879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>
            <a:off x="5925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>
            <a:off x="61801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>
            <a:off x="6519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>
            <a:off x="71960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>
            <a:off x="753588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78739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211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55180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88898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92282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95677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6180120" y="3832200"/>
            <a:ext cx="339840" cy="33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5334120" y="425592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100 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5418000" y="2540160"/>
            <a:ext cx="4572000" cy="1100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ranslateHandleToObjec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rocess = PspCidTable[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PsGetCurrentProcessById() 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 Process == NULL) 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Process-&gt;ObjectTable[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6BC3B-FB19-433B-AFEA-916B0E5CDE9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406440" y="2924280"/>
            <a:ext cx="306540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>
            <a:off x="290520" y="1854360"/>
            <a:ext cx="4451400" cy="2624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4826160" y="1185840"/>
            <a:ext cx="338040" cy="5842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1778040" y="4317840"/>
            <a:ext cx="846000" cy="1270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592200" y="5587920"/>
            <a:ext cx="330192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ZwTerminateProcess(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3639960" y="1947600"/>
            <a:ext cx="2202120" cy="3724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5925960" y="1608120"/>
            <a:ext cx="3302280" cy="695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NtTerminateProcess: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VOID obj = TranslateHandleToObject(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5418000" y="5079960"/>
            <a:ext cx="4572000" cy="3380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5672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6012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62658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66038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69422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72817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>
            <a:off x="76201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7958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8298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86360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897408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"/>
          <p:cNvSpPr/>
          <p:nvPr/>
        </p:nvSpPr>
        <p:spPr>
          <a:xfrm>
            <a:off x="93139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>
            <a:off x="96519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0" y="4572000"/>
            <a:ext cx="211608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0x03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"/>
          <p:cNvSpPr/>
          <p:nvPr/>
        </p:nvSpPr>
        <p:spPr>
          <a:xfrm>
            <a:off x="6265800" y="5079960"/>
            <a:ext cx="3380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"/>
          <p:cNvSpPr/>
          <p:nvPr/>
        </p:nvSpPr>
        <p:spPr>
          <a:xfrm>
            <a:off x="5418000" y="55040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 1  2  3  ..  .. .. .. 80 81  82  83 84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2" name=""/>
          <p:cNvSpPr/>
          <p:nvPr/>
        </p:nvSpPr>
        <p:spPr>
          <a:xfrm>
            <a:off x="7450200" y="6180120"/>
            <a:ext cx="2455920" cy="902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Type = OBJ_PROCESS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        = 0x8014231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4002120"/>
            <a:ext cx="4572000" cy="33804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4" name=""/>
          <p:cNvSpPr/>
          <p:nvPr/>
        </p:nvSpPr>
        <p:spPr>
          <a:xfrm>
            <a:off x="55879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"/>
          <p:cNvSpPr/>
          <p:nvPr/>
        </p:nvSpPr>
        <p:spPr>
          <a:xfrm>
            <a:off x="5925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6" name=""/>
          <p:cNvSpPr/>
          <p:nvPr/>
        </p:nvSpPr>
        <p:spPr>
          <a:xfrm>
            <a:off x="61801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7" name=""/>
          <p:cNvSpPr/>
          <p:nvPr/>
        </p:nvSpPr>
        <p:spPr>
          <a:xfrm>
            <a:off x="6519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8" name=""/>
          <p:cNvSpPr/>
          <p:nvPr/>
        </p:nvSpPr>
        <p:spPr>
          <a:xfrm>
            <a:off x="685800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9" name=""/>
          <p:cNvSpPr/>
          <p:nvPr/>
        </p:nvSpPr>
        <p:spPr>
          <a:xfrm>
            <a:off x="71960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0" name=""/>
          <p:cNvSpPr/>
          <p:nvPr/>
        </p:nvSpPr>
        <p:spPr>
          <a:xfrm>
            <a:off x="753588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"/>
          <p:cNvSpPr/>
          <p:nvPr/>
        </p:nvSpPr>
        <p:spPr>
          <a:xfrm>
            <a:off x="78739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"/>
          <p:cNvSpPr/>
          <p:nvPr/>
        </p:nvSpPr>
        <p:spPr>
          <a:xfrm>
            <a:off x="8211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3" name=""/>
          <p:cNvSpPr/>
          <p:nvPr/>
        </p:nvSpPr>
        <p:spPr>
          <a:xfrm>
            <a:off x="855180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4" name=""/>
          <p:cNvSpPr/>
          <p:nvPr/>
        </p:nvSpPr>
        <p:spPr>
          <a:xfrm>
            <a:off x="88898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"/>
          <p:cNvSpPr/>
          <p:nvPr/>
        </p:nvSpPr>
        <p:spPr>
          <a:xfrm>
            <a:off x="92282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6" name=""/>
          <p:cNvSpPr/>
          <p:nvPr/>
        </p:nvSpPr>
        <p:spPr>
          <a:xfrm>
            <a:off x="95677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"/>
          <p:cNvSpPr/>
          <p:nvPr/>
        </p:nvSpPr>
        <p:spPr>
          <a:xfrm>
            <a:off x="6180120" y="400212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"/>
          <p:cNvSpPr/>
          <p:nvPr/>
        </p:nvSpPr>
        <p:spPr>
          <a:xfrm>
            <a:off x="5334120" y="44258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100 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"/>
          <p:cNvSpPr/>
          <p:nvPr/>
        </p:nvSpPr>
        <p:spPr>
          <a:xfrm>
            <a:off x="5418000" y="2681280"/>
            <a:ext cx="4572000" cy="1100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ranslateHandleToObjec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rocess = PspCidTable[ PsGetCurrentProcessById()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 Process == NULL) 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Process-&gt;ObjectTable[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"/>
          <p:cNvSpPr/>
          <p:nvPr/>
        </p:nvSpPr>
        <p:spPr>
          <a:xfrm>
            <a:off x="254160" y="1860480"/>
            <a:ext cx="4487760" cy="25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est.exe ProcessId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ANDLE hProcess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OpenProcess(PROCESS_ALL_ACCESS, 0, 132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hProcess == INVALID_HANDLE)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TerminateProcess(hProcess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"/>
          <p:cNvSpPr/>
          <p:nvPr/>
        </p:nvSpPr>
        <p:spPr>
          <a:xfrm>
            <a:off x="1193760" y="84240"/>
            <a:ext cx="84582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marL="25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le Table Translation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8D14-C55B-4406-AE0B-91F5F6D7978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tect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7000"/>
          </a:bodyPr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acklight B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d in March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hidden process and file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eSword 1.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ust tool offe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SDT Hook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File and Registry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Ports and socket communication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fla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applications rely upon the PspCidTable for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BF18-94FB-44DF-97DB-BFC1D28A9D5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169560"/>
            <a:ext cx="10159920" cy="762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tecting Hidden Processe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ID Brutefor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0" y="1185480"/>
            <a:ext cx="10159920" cy="626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light (Pre-Valentine’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uteforces PIDs 0x0 - 0x4E1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s OpenProcess on each P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uccess store valid P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se Continue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ed looping, take list of known PIDs and compare it to list generated by calling CreateToolhelp32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differences are hidde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Cross-View method or Difference Based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BB61-26D8-459A-98CB-A4824E3F041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1F1F-4E86-4A12-99BC-1CC85A2D99E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RAID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akes RAIDE different than Blacklight, RKDetector, Rootkit Revealer, VICE, SVV, SDTResto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n’t RAIDE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7DD5-E1AF-4276-8D37-26C6257749F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7960" y="1219320"/>
            <a:ext cx="9220320" cy="594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8000"/>
          </a:bodyPr>
          <a:p>
            <a:pPr marL="63144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view of Rootk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356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 Address Table (I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ServiceDescriptor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82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82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y over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/O Request Packet (IR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rupt Descriptor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356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ing Proces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ing Hidden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 using RA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8B80-2E6A-4906-A9AB-4FA83E8945C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A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7960" y="1294920"/>
            <a:ext cx="9220320" cy="586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E is a complete toolkit offer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ensic Capabilities (RKDetec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mping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Detection (Black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k Detection (SDTRestore, SVV, V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k Restoration (SDTRestore, SV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T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 Subversion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Featu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nk processes to make it vi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se Hidden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Method Detection – Example hook, DKOM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256A-420D-44DE-95FA-086DF9120AB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kes RAIDE Differ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combines most exis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etects Memory Sub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gives the user more information about hidde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e IOCTL’s to commun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68E3-BE44-4590-894F-ACA00A5B089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n’t RAIDE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detect hidden files, folders, or registry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restore Driver IRP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restore IDT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prevent a rootkit from lo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C22C-C01F-421F-BF2C-C9A2BB43A10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 Communica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uses Shared Memory segments to pass information kernel lan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er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d Memory contains only encryp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uses randomly named events for signa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randomly generated process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spawns a user process from a driver to do a Difference Based or Cross-View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B8DE-FE4B-49D8-BAA9-5146A77F2F0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for Process De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that can not be zeroed o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that is u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must not have false posi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8E74-9CA8-4D86-BEE9-96AFFDDA0C4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07960" y="12949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a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e pointers to “ServiceTabl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Table = nt!KeServiceDescriptorTableSha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Table = nt!KeServiceDescrip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ined in all E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wn a process with random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wned process generates process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s processes list visible to RAI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E compares the two lists finding the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16EF-6314-43D4-BF7D-F164B7255D5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Method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ct hidden process methods, we need to know the two methods most commonly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K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pCid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process is not visible by walking ActiveProcessList in the EPROCESS block then it was hidden using the DKOM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 for it to be hidden with the DKOM method it has to be visible in the PspCidTable, so RAIDE will walk that as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hidden in both it uses the FUTo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6E07-9CD3-46D8-B668-B192B5527FA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254160"/>
            <a:ext cx="10159920" cy="7617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dow Walker Detection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lluminating the Shad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10159920" cy="563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dow Walker relies on IDT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IDT 0x0e for a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 could modify itself to hide the IDT hook with an inline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detection schemes o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pping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remapping, we mean remapping a given physical frame to a new virtual address (i.e. like the shared memory concep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2EB9-A64D-4ECF-B5F5-6596A47C761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 Rest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n SSDT entry overwrite hook is de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ntoskrn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KeServiceDescriptorTable from file on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original address for hooked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alculate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-hook” SSDT index with original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9787-4158-422A-85CA-B807375812C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 Rest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an inline hoo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ntoskrnl on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original function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first few instru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ore first few instr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restore as many instructions a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41EA-B390-4C92-A64B-F2FAC6AAC1E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rootk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 might incl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programs which patch and Trojan existing execution paths withi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oks or Modifies existing execution paths of important operating system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key point of a rootkit is steal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y of Rootk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ace binaries like ls, ps, du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jan login program to steal pass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AC17-C99E-446A-AA53-4ACA8E17908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ens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lvl="1" marL="98748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offers the user forensic feat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nking Processes DKOM Method in Re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Processes’ address spaces for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36BF-F75E-4D03-85C9-F5692A620DF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nk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is common hiding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relies on unlinking the EPROCESS link poi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ore link pointers by passing the System EPROCESS and the hidden EPROCESS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sertTail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user to se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97FC-1D8D-48C2-85CD-90ACBE7B92F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mping Proce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Security Analysts to reverse the executable or system file and see what it was do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matter if the file is originally hidden on the H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ed file is renamed and put in working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lets analyst bypass most packer and obfuscation prot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EB121-C69C-4640-811A-5BA3E450EF6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: bugcheck, xbud, thief, skape, pedram, greg h, nologin/research’ers, f-secure labs. And my school for cutting me a break on midte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ie: Lil’ L, lonerancher, Barns, Greg, and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g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6095-42BD-4D07-8450-62AF69A7F8B9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3D3B-F309-4360-AB43-87A18CF539D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BD15-7AEA-4367-A9DD-5D571D6957E7}" type="slidenum">
              <a:t>45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ing in User 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7000"/>
          </a:bodyPr>
          <a:p>
            <a:pPr marL="62496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AT h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ing code must run in or alter the address space of the target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try to patch a shared DLL such as KERNEL32.DLL or NTDLL.DLL, you will get a private copy of the D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documented ways to gain execution in the target address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Remote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ly hooking Windows 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Reg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3512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KEY_LOCAL_MACHINE\Software\Microsoft\Windows NT\CurrentVersion\Windows\AppInit_D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37EBF-C514-467E-874F-DB948E82795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"/>
          <p:cNvSpPr/>
          <p:nvPr/>
        </p:nvSpPr>
        <p:spPr>
          <a:xfrm>
            <a:off x="5905800" y="2327400"/>
            <a:ext cx="26377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 Address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317840" y="254016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"/>
          <p:cNvSpPr/>
          <p:nvPr/>
        </p:nvSpPr>
        <p:spPr>
          <a:xfrm>
            <a:off x="7026120" y="635004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"/>
          <p:cNvSpPr/>
          <p:nvPr/>
        </p:nvSpPr>
        <p:spPr>
          <a:xfrm>
            <a:off x="5842080" y="4995720"/>
            <a:ext cx="3809880" cy="127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"/>
          <p:cNvSpPr/>
          <p:nvPr/>
        </p:nvSpPr>
        <p:spPr>
          <a:xfrm>
            <a:off x="5842080" y="4995720"/>
            <a:ext cx="19479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Name or Ordina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"/>
          <p:cNvSpPr/>
          <p:nvPr/>
        </p:nvSpPr>
        <p:spPr>
          <a:xfrm>
            <a:off x="7790040" y="4995720"/>
            <a:ext cx="194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122334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"/>
          <p:cNvSpPr/>
          <p:nvPr/>
        </p:nvSpPr>
        <p:spPr>
          <a:xfrm>
            <a:off x="3894120" y="4572000"/>
            <a:ext cx="1947960" cy="1693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"/>
          <p:cNvSpPr/>
          <p:nvPr/>
        </p:nvSpPr>
        <p:spPr>
          <a:xfrm>
            <a:off x="4910040" y="4233960"/>
            <a:ext cx="4741920" cy="761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60AA-D1E1-46D6-ADAF-FB087EBA383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455560" y="101592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"/>
          <p:cNvSpPr/>
          <p:nvPr/>
        </p:nvSpPr>
        <p:spPr>
          <a:xfrm>
            <a:off x="7026120" y="635004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"/>
          <p:cNvSpPr/>
          <p:nvPr/>
        </p:nvSpPr>
        <p:spPr>
          <a:xfrm>
            <a:off x="5842080" y="4995720"/>
            <a:ext cx="3809880" cy="127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5842080" y="4995720"/>
            <a:ext cx="19479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Name or Ordina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"/>
          <p:cNvSpPr/>
          <p:nvPr/>
        </p:nvSpPr>
        <p:spPr>
          <a:xfrm>
            <a:off x="7790040" y="4995720"/>
            <a:ext cx="194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122334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6349680" y="1947960"/>
            <a:ext cx="1523880" cy="3216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6433920" y="1947960"/>
            <a:ext cx="2793960" cy="313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6265440" y="1777680"/>
            <a:ext cx="422280" cy="592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A662-1F7F-46A7-8EAC-D6E0B7DED93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793960" y="4401720"/>
            <a:ext cx="144000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741920" y="2031840"/>
            <a:ext cx="2116080" cy="2455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"/>
          <p:cNvSpPr/>
          <p:nvPr/>
        </p:nvSpPr>
        <p:spPr>
          <a:xfrm>
            <a:off x="5842080" y="4402080"/>
            <a:ext cx="2709720" cy="220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"/>
          <p:cNvSpPr/>
          <p:nvPr/>
        </p:nvSpPr>
        <p:spPr>
          <a:xfrm>
            <a:off x="6518880" y="3894120"/>
            <a:ext cx="1730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"/>
          <p:cNvSpPr/>
          <p:nvPr/>
        </p:nvSpPr>
        <p:spPr>
          <a:xfrm>
            <a:off x="6012000" y="4826160"/>
            <a:ext cx="1778040" cy="50796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 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007C-9240-4F70-B5CA-3BCE585FE0E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793960" y="4401720"/>
            <a:ext cx="144000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"/>
          <p:cNvSpPr/>
          <p:nvPr/>
        </p:nvSpPr>
        <p:spPr>
          <a:xfrm>
            <a:off x="5842080" y="4402080"/>
            <a:ext cx="2709720" cy="220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"/>
          <p:cNvSpPr/>
          <p:nvPr/>
        </p:nvSpPr>
        <p:spPr>
          <a:xfrm>
            <a:off x="6518880" y="3894120"/>
            <a:ext cx="1730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"/>
          <p:cNvSpPr/>
          <p:nvPr/>
        </p:nvSpPr>
        <p:spPr>
          <a:xfrm>
            <a:off x="6012000" y="4826160"/>
            <a:ext cx="1778040" cy="50796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"/>
          <p:cNvSpPr/>
          <p:nvPr/>
        </p:nvSpPr>
        <p:spPr>
          <a:xfrm>
            <a:off x="4741920" y="4487760"/>
            <a:ext cx="1353960" cy="507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11B5-9A75-4D1F-ABF0-426CBFCF1B1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 Peter</cp:lastModifiedBy>
  <dcterms:modified xsi:type="dcterms:W3CDTF">2006-03-03T09:11:01Z</dcterms:modified>
  <cp:revision>17</cp:revision>
  <dc:subject/>
  <dc:title>Copilot: A high assurance integrity monitor</dc:title>
</cp:coreProperties>
</file>