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F036-B7EA-473D-BA8C-E0FDD26FF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0E6F-2AC7-4B89-ADDF-16CF3B234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E747-DA95-49C9-B01F-9438402F8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3870-86C3-498B-BC50-EC0CBECF2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DCFB-FA5C-41E7-9378-6453956CA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D2B-667B-4915-A26A-CE6A5484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EF9-F83D-41D3-99C7-92795DA3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643-EF54-4311-AC56-A585E8CF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1D0-A1B4-460C-B0C8-4F7EA342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009F-C32D-4564-A59D-2B9E4609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25B6-C34D-47B5-802A-96930C51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A07D-83DA-4657-9B0B-11E958B8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1157-DB74-41AC-9AEA-E772950A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617C-49A6-4345-9B76-BB2EB6BD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B2AE-33BC-4D84-9D7B-CB854A1A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B027-972B-49BE-89D7-0832422A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CE0-308B-46E7-AFC8-4DE16854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2130-B070-4D80-B2A7-44F7862C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1B93-9DEB-4553-B3A1-B2DFD431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E8B2-98DD-4B02-882D-4BF2A88A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E330-0B3D-477E-BC96-77C00379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D595-72C5-404C-8FA9-0F408EB1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DC8-DC85-440A-A653-6416F984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D9F-E923-46B0-8AAD-4F30AE8C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4A5-F410-4120-BAD0-E65A3782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FCD-EC79-48C0-8503-5B81DB5B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30B-974B-4551-ABDA-BC8B868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A1F-4D85-477D-AA74-EE01357D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7A9-2AA4-426C-A46C-217D9E69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19920" y="662904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 YOUR company nam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Jamie Butler &amp; Peter Silber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BDFC-611D-451E-A48B-3F78D2D11A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basic_mdl_flags.zip" TargetMode="External"/><Relationship Id="rId3" Type="http://schemas.openxmlformats.org/officeDocument/2006/relationships/hyperlink" Target="http://www.rootkit.com/vault/hoglund/basic_mdl_flags.zip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migbot.zip" TargetMode="External"/><Relationship Id="rId3" Type="http://schemas.openxmlformats.org/officeDocument/2006/relationships/hyperlink" Target="http://www.rootkit.com/vault/hoglund/migbot.zip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TCPIRPHook.zip" TargetMode="External"/><Relationship Id="rId3" Type="http://schemas.openxmlformats.org/officeDocument/2006/relationships/hyperlink" Target="http://www.rootkit.com/vault/fuzen_op/TCPIRPHook.zip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ugcheck.org/code/bytehook.zip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SysEnterHook.zip" TargetMode="External"/><Relationship Id="rId3" Type="http://schemas.openxmlformats.org/officeDocument/2006/relationships/hyperlink" Target="http://www.rootkit.com/vault/fuzen_op/SysEnterHook.zip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hoglund/rk_044.zip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fuzen_op/FU_Rootkit.zip" TargetMode="External"/><Relationship Id="rId3" Type="http://schemas.openxmlformats.org/officeDocument/2006/relationships/hyperlink" Target="https://www.rootkit.com/vault/fuzen_op/FU_Rootkit.zip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rce.org/" TargetMode="External"/><Relationship Id="rId3" Type="http://schemas.openxmlformats.org/officeDocument/2006/relationships/hyperlink" Target="http://www.openrce.org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newsread.php?newsid=50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R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ootkit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nalysi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entification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liminatio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960" y="3657600"/>
            <a:ext cx="910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38EC-74E9-4D2A-80E8-9FC8D6365C44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Entry Overwr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657600"/>
            <a:ext cx="190476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200400"/>
            <a:ext cx="1679400" cy="7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648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95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basic_mdl_flags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5CD-C8BF-453A-84FB-4F4E1E378345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Inline Hook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1447920"/>
            <a:ext cx="220968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1143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429000"/>
            <a:ext cx="221004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523880"/>
            <a:ext cx="1905120" cy="10576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mp 0008:11223344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715000" y="2209680"/>
            <a:ext cx="17524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343224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di,edi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sh    eb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bp,es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mp nt!NtCreateFile+08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86240" y="25146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8153280" y="2361960"/>
            <a:ext cx="76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172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migbot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812-C89E-422E-A4F7-4F7E5975EE10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/O Manager IRP Hoo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tem calls used to send comman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eviceIoControl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Write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ests are converted to I/O Request Packets (IRP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RPs are delivered to lower level driv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CPIRP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TCPIRP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y and every firewal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CA0-053D-4F40-82BC-475D282582E0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Hoo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CPU has an ID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T contains pointers to Interrupt Service Routines (IS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s for IDT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ake over the virtual memory manag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ngle step the processo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tercept keystrok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verflowGuar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dow Walk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neByte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bugcheck.org/code/byte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D52-DDBF-47A3-B89F-BB42EF24295F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Specific Reigsters (MS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ETER is the replacement for int 2E which passed control from user mode to kernel mode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loads EAX with the system call number (i.e. 0x25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X is loaded with the current stack pointer ES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executes the SYSENTER instru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TER passes control to an address in the IA32_SYSENTER_EIP Model Specific Register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A32_SYSENTER_EIP is readable and writable but is a privileged instruc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ysEnter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SysEnter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3B8-AA92-4D56-ABBF-9E116BF44BAB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Rootkit By Greg Hogl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 the following functions to hide processes/files/registery entri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Threa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Valu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Directory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SystemInformatio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Quite dated but was the first public rootkit of its kind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Rootkit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www.rootkit.com/vault/hoglund/rk_044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104-7753-4A5C-8A73-A65AD646FDD0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 by Jamie Bu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introduces Direct Kernel Object Manipulation and takes process  hiding to the next level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OM can be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a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ocate the EPROCESS block of the process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Privilege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Group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ipulate the Token to Fool the Windows Event View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Por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U 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FU_Rootkit.zip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616-6F1C-4923-925C-A9A82FD62109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ding Processes - Wind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71880" y="6103800"/>
            <a:ext cx="4723920" cy="304920"/>
            <a:chOff x="2171880" y="6103800"/>
            <a:chExt cx="4723920" cy="304920"/>
          </a:xfrm>
        </p:grpSpPr>
        <p:sp>
          <p:nvSpPr>
            <p:cNvPr id="245" name=""/>
            <p:cNvSpPr/>
            <p:nvPr/>
          </p:nvSpPr>
          <p:spPr>
            <a:xfrm>
              <a:off x="2233440" y="6381000"/>
              <a:ext cx="4662360" cy="27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24520" y="6103800"/>
              <a:ext cx="61560" cy="275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880" y="6158880"/>
              <a:ext cx="123840" cy="249840"/>
            </a:xfrm>
            <a:prstGeom prst="upArrow">
              <a:avLst>
                <a:gd name="adj1" fmla="val 50000"/>
                <a:gd name="adj2" fmla="val 50436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graphicFrame>
        <p:nvGraphicFramePr>
          <p:cNvPr id="248" name=""/>
          <p:cNvGraphicFramePr/>
          <p:nvPr/>
        </p:nvGraphicFramePr>
        <p:xfrm>
          <a:off x="1965240" y="1508040"/>
          <a:ext cx="5367600" cy="457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5240" y="1508040"/>
                    <a:ext cx="5367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2103480" y="4114800"/>
            <a:ext cx="4594320" cy="1265040"/>
            <a:chOff x="2103480" y="4114800"/>
            <a:chExt cx="4594320" cy="1265040"/>
          </a:xfrm>
        </p:grpSpPr>
        <p:sp>
          <p:nvSpPr>
            <p:cNvPr id="251" name=""/>
            <p:cNvSpPr/>
            <p:nvPr/>
          </p:nvSpPr>
          <p:spPr>
            <a:xfrm rot="5400000">
              <a:off x="5987880" y="4669920"/>
              <a:ext cx="1265040" cy="154800"/>
            </a:xfrm>
            <a:prstGeom prst="rightArrow">
              <a:avLst>
                <a:gd name="adj1" fmla="val 50000"/>
                <a:gd name="adj2" fmla="val 204302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03480" y="4114800"/>
              <a:ext cx="4542840" cy="1234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03480" y="4114800"/>
              <a:ext cx="51480" cy="124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70F-657C-44CA-8370-3DDEDE76ABDD}" type="slidenum">
              <a:t>17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0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DE2 – by 902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move threads from KiWaitInListHead, KiWaitOutListHead and KiDispatcherReadyListHead and creates its own lists that it swaps in and out when it wants to give its own threads CPU tim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– by Peter Silberman &amp;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informed Journal Vol. 3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w version 2 of FU. Hence the ‘To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es from IceSword and Blackligh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ption –pngh bypasses as of (06/26/06)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lacklight  (F-Secur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ntiRootkit (BitDefender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elio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arkSpy does detection FUTo -ph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EEA-DFC8-43FE-8A44-76AC000478B1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To – Modifying PspCidT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removes itself from the PspCid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spCidTable’s indexes are the PIDs of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530-DD94-4016-8E0C-A255E336E00F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ter Silb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dergraduate College Student (*yuck*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dependent Security Research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FUTo, (soon to be released PAIMEIdiff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ributor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openRCE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(VISIT THE SIT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Jamie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urrently Un-Employed…. </a:t>
            </a:r>
            <a:r>
              <a:rPr b="0" lang="en-US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oftware attes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 dete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Rootkits: Subverting the Windows Kern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-author of Shadow Walker proof-of-concept memory subversion rootki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oneer of Direct Kernel Object Manipulation (DKO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9DE-C45E-400B-9225-FCCCCA848E27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ndles are an index into the Handle Table for a particular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cts represent processes, threads, tokens, events, ports,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must do the translation from a handle to an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very process has its own handle table to keep track of the handles it ow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283-0FD6-4FB6-BC95-FE9B120F86C9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d&gt; dt nt!_HANDLE_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0 TableCode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4 QuotaProcess                  : Ptr32 _E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8 UniqueProcessId            : Ptr32 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c HandleTableLock           : [4]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1c HandleTableList             : _LIST_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4 HandleContentionEvent :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8 DebugInfo                      : Ptr32 _HANDLE_TRACE_DEBUG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c ExtraInfoPages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0 FirstFree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4 LastFree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8 NextHandleNeedingPool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c HandleCount    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Flags     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StrictFIFO                      : Pos 0, 1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989-E3D6-4C20-B67D-732ACD9D53C4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3581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4800600"/>
            <a:ext cx="45720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B1F-712A-460C-B9F5-7AFCC9054594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F41-5D9D-407A-84AA-AB2F55B07C47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ng Hidden Processes PID Brutefor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uteforces PIDs 0x0 - 0x4E1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s OpenThread on each PI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f Success store valid PI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lse Continue Loo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y differences are hidden proces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ed Cross-View method or Difference Based Metho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A6A-2FC3-4282-BFBA-A5481E7199E8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DCDE-0C89-46A5-965D-22B6C83E63E4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Design Though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to be an all stop shop for most common rootkit detec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uses secure communication methods to prevent people from interfering with ou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is not developed with a GUI and does not require any runtime dll’s/frameworks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for both advanced users who want the files for research and beginners who just want to be rootkit f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46A-B0A2-4D7C-8CE7-6A9319F6BC1B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can ru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XP – SP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 SP4 (Hasn’t been tested on earlier versions, feel free to donate copies and RAIDE will support all win2k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3 pre sp1 – Issues were found for post SP1 and support is currently in developmen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4C3-FA0C-4DCB-BAB5-D84917C1FE40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 Communicatio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communication designed to thwart Crappy And Stupid Application Specific Attacks (CAS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uses Shared Memory segments to pass information kernel l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red Memory segment is randomly generat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munication uses randomly named events for signal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s randomly generated process nam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 spawned process looks like any other process spawned from userland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18B-F6F8-4FD0-9EB9-9088F0EF53B9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What it is no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lacement for common sens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keep you rootkit free nor will it pick up every rootkit. It’s a cat and mous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find hidden files/directories/registry entries. There are no plans currently to suppor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does not restore driver IRPs/IDT/MSR h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at the moment identify hidden drivers, but there are plenty of applications out there to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identify drivers hiding in plain sight as rootkits since they are not HIDDEN nor are they hiding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212-3DB0-4432-828C-71827B3DDA64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going to be cov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Quick Review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fine Rootkits &amp; Hoo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serland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mport Address Table (I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xport Address Table (E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Kernel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KeServiceDescriptor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ntry (Index) Overw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/O Request Packet (IR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terrupt Descriptor 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odel Specific Registers (MSR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ocess Hiding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Old School DKOM (FU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School F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evious Detection Techniqu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AF6-C347-406E-BE64-E43344929636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User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 mode check all “important” loaded modul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IA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point to the correct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don’t point to .reloc se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E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point within the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don’t point out of the .text sec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51C-F887-4E67-9913-8A918C9F7D14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Kernel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Kernel mod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KiSystemServiceDescriptorTable (SSDT) function poin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function pointers point within NTOSKRN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SSDT function’s have not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ntoskrnl off of disk and and compare the instru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DT make sure the handlers point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ithin the preamble of each IDT handler make sure no common inline methods i.e. jmp, ret etc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A32_SYSENTER_EIP MSR to make sure it points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mportant driver’s for IRPs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BDA-BFE6-482D-A65C-C30B687F2A5B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system for DeepDoor and UAY lik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 level NDIS hooks allow complete stealth command and control channel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tackers have implemented their own TCP/IP stack in the Windows kernel and bypassed the existing stack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vides invisibility from personal firewalls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lows the attacker to communicate on non existent ports or on ports bound to other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e Alexander Tereskin’s  talk on bypassing personal firewall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D3C-91B7-4F91-84D1-ECB74B9115BF}" type="slidenum">
              <a:t>32</a:t>
            </a:fld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can not be zeroed ou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is uniq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must not have false positi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192-6FC3-4796-B4E2-24C0D0FCEEF5}" type="slidenum">
              <a:t>33</a:t>
            </a:fld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cate pointers to “ServiceTable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ained in all ETHR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awn a process with random nam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nds processes list visible to RAIDE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idden proces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8CF-FDF7-48A3-B7C4-F323F14D7AE4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Dumping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lows Security Analysts to reverse the executable or system file and see what it was doing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matter if the file is originally hidden on the H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 file is renamed and put in the working director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ing lets analysts bypass any packer protection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te: sophisticated attack agents do not require the H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029-9EFE-4BA9-9AAE-6063BEDB6C61}" type="slidenum">
              <a:t>35</a:t>
            </a:fld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nsic Analysis of hooking modules or hidden proc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o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k is found in kernel and the hooking module was identified, rename it and dump it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idden process is found, dump the process and all dlls in the user space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is in BETA and not included in public rel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A3B-A840-4E3D-B805-98B571356675}" type="slidenum">
              <a:t>36</a:t>
            </a:fld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hook typ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 Types are as follow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SDT Overwrite / SSD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AT Overwrite / IA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AT Overwrite / EAT Inline / EAT Forward Hook (user and kernel mod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RP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DT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pen Block/ Characteristics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method being used to hide processe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urrent methods identified ar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spCidTable modific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4F2-6263-4E29-A5E2-EF5888934A67}" type="slidenum">
              <a:t>37</a:t>
            </a:fld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 the process is hidden in both, the rootkit uses the FUTo meth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6BB-1EEB-4250-93CB-1129681356B9}" type="slidenum">
              <a:t>38</a:t>
            </a:fld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listing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firewalls act very similar if not exactly like rootkit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whitelists drivers using signatures such as checksums and other value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the hooking driver matches a signature the user is notified that tampering with the hook could result in system failure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does NOT rely on behavioral analysis to identify firewalls, since any rootkit mimicking these behaviors would fool the system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439-1B27-4C54-A76E-97C5ED26DA07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 Rootki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s or Modifies existing execution paths of important operating system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key point of a rootkit is stealth our definition includes they must make an attempt to hide some action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s that do not hide themselves are not then using stealth methods and will be visible to administrative or forensic tools (i.e. DeviceTree from OSR) shows all non-hidden driver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0F2-0D24-4E21-AD08-808FE97952F5}" type="slidenum">
              <a:t>4</a:t>
            </a:fld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dentified Firew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aspersky Internet Security 6.0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itDefender 9 Professional Pl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post Firewall Pro v3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-Secure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ZoneAlarm 6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Personal Firewall 4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end Micro PC-Cillin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WinRoute 6.2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253 hooks installed by these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0E9-A325-418A-B9E4-36956E645527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I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: E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li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kit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the original value of inlined hooked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function pointers in the SSD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values of drivers whose EAT have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Process Op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cess hidden by DKOM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relinked to make the reappear in task manager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closed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a process is hidden using FUTo method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t is not safe to close or attempt to relink the proces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72A-20BD-4C9D-8BB9-89A09CED797E}" type="slidenum">
              <a:t>41</a:t>
            </a:fld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ank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– Bugcheck, greg h, pedram, uninformed/research’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ie – the HBG crew, eEye (liquid dietitians), Lil’ L, and uninfor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EF9-7C8E-4DDF-83F4-537AA3B4518C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9636-6E80-43CC-8DE5-AA8D810A0CDA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Demo VM will hav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: (6 rootkits, no hand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SDT Overwrit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river EAT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den Proces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To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d…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nDb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l on VMWa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3C1-08D0-41EC-8A74-868C6EE6BF6E}" type="slidenum">
              <a:t>4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land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T h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eateRemoteThre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lobally hooking Windows messag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ing the Regist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A0D-FD48-4243-AC04-DA1DE147A977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T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ode DLL’s and Kernel drivers both expor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port Address Table is a table of pointers to functions within a module that are callable by other modul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kernel mode will redirect every modified call to a hooked fun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user mode will redirect every call within that given process space but not system wid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tProcAddr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adLibra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Kernel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dis*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4AA-3F28-49F4-9A77-B698571DF8E8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oking The Ker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perating system is global memory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rely on process con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cept when portions of a driver are page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nel Object Hooking (KOH) is a great an example of pointer modifica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odification of function pointers to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river Unload routine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KOH introduces a very tough issue of detection since its hard to ascertain in a lot of cases where a pointer is suppose to poi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reg H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rootkit.com/newsread.php?newsid=50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1E1-ECFD-4CB2-9606-06E3B08B01F0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19560" y="2438280"/>
            <a:ext cx="990720" cy="2438280"/>
            <a:chOff x="5119560" y="2438280"/>
            <a:chExt cx="990720" cy="2438280"/>
          </a:xfrm>
        </p:grpSpPr>
        <p:sp>
          <p:nvSpPr>
            <p:cNvPr id="117" name=""/>
            <p:cNvSpPr/>
            <p:nvPr/>
          </p:nvSpPr>
          <p:spPr>
            <a:xfrm>
              <a:off x="5119560" y="2438280"/>
              <a:ext cx="990720" cy="243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19560" y="27432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19560" y="30477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9560" y="36576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9560" y="39621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19560" y="45720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344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30481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0280" y="3352680"/>
            <a:ext cx="12952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0280" y="3048120"/>
            <a:ext cx="12952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9560" y="3352680"/>
            <a:ext cx="5335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3080" y="4114800"/>
            <a:ext cx="1752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9400" y="4281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CreateFi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600200"/>
            <a:ext cx="759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1D5-861F-41A7-B727-5651F0F8C323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97120" y="2438280"/>
            <a:ext cx="2908440" cy="3049200"/>
            <a:chOff x="4497120" y="2438280"/>
            <a:chExt cx="2908440" cy="3049200"/>
          </a:xfrm>
        </p:grpSpPr>
        <p:sp>
          <p:nvSpPr>
            <p:cNvPr id="148" name=""/>
            <p:cNvSpPr/>
            <p:nvPr/>
          </p:nvSpPr>
          <p:spPr>
            <a:xfrm>
              <a:off x="5119560" y="2438280"/>
              <a:ext cx="990720" cy="2438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9560" y="27432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9560" y="30481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19560" y="36576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19560" y="39625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9560" y="45720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7120" y="30481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x25</a:t>
              </a:r>
              <a:endParaRPr b="0" lang="en-US" sz="16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19560" y="304812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0280" y="3352680"/>
              <a:ext cx="12952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0280" y="3048120"/>
              <a:ext cx="12952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19560" y="3352680"/>
              <a:ext cx="53352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53080" y="4114800"/>
              <a:ext cx="1752480" cy="685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9400" y="4281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CreateFi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48448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Service Descriptor Tab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91320" y="220968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562360" y="1752480"/>
            <a:ext cx="7596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EAF-A76C-4472-9F9C-D1823FC0AFD3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9:27Z</dcterms:created>
  <dc:creator>Ohorovitz</dc:creator>
  <dc:description/>
  <dc:language>en-US</dc:language>
  <cp:lastModifiedBy> Peter</cp:lastModifiedBy>
  <dcterms:modified xsi:type="dcterms:W3CDTF">2006-08-03T00:06:04Z</dcterms:modified>
  <cp:revision>144</cp:revision>
  <dc:subject/>
  <dc:title>Reliable Windows Heap Exploits</dc:title>
</cp:coreProperties>
</file>