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63CE-973F-452C-A3A3-BE93E59EF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25D4-9C73-4AF7-8994-F51A77533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3C9D-901B-459D-855F-8B6CBED02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E615-9E1A-4C6A-B0E3-3F26E12CA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5B47-45D3-40E1-9AB4-C017A3F96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AF25-A245-4FE6-8CB0-532B5644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FC0-1842-40C7-97FE-BA5B416D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5C7-45A8-40C9-8525-3CAF1249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43D1-5BF3-42CF-BED2-17B0D8D7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0D99-8179-4E46-A513-950DC3BB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E1CD-1DBD-44F6-AD78-55A26B55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19DE-B381-45ED-9A8A-8F7E5F15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7115-85C7-4363-8F22-1C12B490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048B-A0E3-47F6-9CCA-32C96178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4E74-70C8-468F-BAD4-5A41FD56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4674-5C3C-4906-9CAC-3BA6EBCD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8C5-73BB-4DDD-B00E-1EEFF74E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5459-F87E-4770-B41E-2AA998EF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09C4-046D-46AD-B9CA-AC83CF2D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41C6-F66D-457F-AE87-38219528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539B-43EA-4923-908E-D9AEAC46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863F-A964-4939-9124-102546C2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0B6-2AD5-4266-B55A-810EFBFE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548-A72D-4C10-9181-45390329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357-21D6-40C4-B911-F105B8B8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9EFD-D4BA-4A90-9803-1C948CB2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A9F-8917-4240-ABBF-595B9B53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937-9682-4946-A8D9-545DCD78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0F1-EDD7-43F9-B5E1-C1406888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019920" y="662904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 YOUR company nam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Jamie Butler &amp; Peter Silber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8A85-2A2B-4C0F-8CE4-74F899E9A4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basic_mdl_flags.zip" TargetMode="External"/><Relationship Id="rId3" Type="http://schemas.openxmlformats.org/officeDocument/2006/relationships/hyperlink" Target="http://www.rootkit.com/vault/hoglund/basic_mdl_flags.zip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migbot.zip" TargetMode="External"/><Relationship Id="rId3" Type="http://schemas.openxmlformats.org/officeDocument/2006/relationships/hyperlink" Target="http://www.rootkit.com/vault/hoglund/migbot.zip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TCPIRPHook.zip" TargetMode="External"/><Relationship Id="rId3" Type="http://schemas.openxmlformats.org/officeDocument/2006/relationships/hyperlink" Target="http://www.rootkit.com/vault/fuzen_op/TCPIRPHook.zip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ugcheck.org/code/bytehook.zip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SysEnterHook.zip" TargetMode="External"/><Relationship Id="rId3" Type="http://schemas.openxmlformats.org/officeDocument/2006/relationships/hyperlink" Target="http://www.rootkit.com/vault/fuzen_op/SysEnterHook.zip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hoglund/rk_044.zip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fuzen_op/FU_Rootkit.zip" TargetMode="External"/><Relationship Id="rId3" Type="http://schemas.openxmlformats.org/officeDocument/2006/relationships/hyperlink" Target="https://www.rootkit.com/vault/fuzen_op/FU_Rootkit.zip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rce.org/" TargetMode="External"/><Relationship Id="rId3" Type="http://schemas.openxmlformats.org/officeDocument/2006/relationships/hyperlink" Target="http://www.openrce.org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newsread.php?newsid=50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R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ootkit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nalysis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entification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liminatio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960" y="3657600"/>
            <a:ext cx="910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E9C6-24AA-4A44-A672-39345CAFDA16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Entry Overwr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3657600"/>
            <a:ext cx="190476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200400"/>
            <a:ext cx="1679400" cy="7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648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95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basic_mdl_flags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E13B-CCF3-43ED-A4C8-13BD9D38651E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Inline Hook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1447920"/>
            <a:ext cx="2209680" cy="121896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1143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429000"/>
            <a:ext cx="221004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1523880"/>
            <a:ext cx="1905120" cy="10576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mp 0008:11223344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715000" y="2209680"/>
            <a:ext cx="17524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3432240"/>
            <a:ext cx="175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di,edi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sh    eb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bp,es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mp nt!NtCreateFile+08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086240" y="2514600"/>
            <a:ext cx="152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8153280" y="2361960"/>
            <a:ext cx="76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61722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migbot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9F4E-42C5-4089-B041-FDA05E48A708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/O Manager IRP Hoo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tem calls used to send comman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eviceIoControl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Write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ests are converted to I/O Request Packets (IRP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RPs are delivered to lower level driv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CPIRP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TCPIRP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y and every firewal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715-26CD-4E32-AE44-A1FB9914299D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Hoo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CPU has an ID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DT contains pointers to Interrupt Service Routines (IS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ses for IDT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ake over the virtual memory manag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ngle step the processo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tercept keystrok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verflowGuar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dow Walk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neByte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bugcheck.org/code/byte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4CE-45F4-48AD-8030-0DA9D30E102C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Specific Reigsters (MS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ETER is the replacement for int 2E which passed control from user mode to kernel mode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loads EAX with the system call number (i.e. 0x25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DX is loaded with the current stack pointer ES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executes the SYSENTER instru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TER passes control to an address in the IA32_SYSENTER_EIP Model Specific Register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A32_SYSENTER_EIP is readable and writable but is a privileged instruc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ysEnter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SysEnter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ACF-D313-41D0-87EC-75B16AA36F10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Rootkit By Greg Hogl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 the following functions to hide processes/files/registery entri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Threa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Valu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Directory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SystemInformatio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Quite dated but was the first public rootkit of its kind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Rootkit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www.rootkit.com/vault/hoglund/rk_044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6E7-F380-4FBF-84C9-2ACD6810036A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 by Jamie Bu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introduces Direct Kernel Object Manipulation and takes process  hiding to the next level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OM can be us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a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ocate the EPROCESS block of the process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Privilege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Group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nipulate the Token to Fool the Windows Event View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Port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U (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FU_Rootkit.zip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AFB-3F68-4BD2-9C8C-819F5FC68DB8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ding Processes - Window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171880" y="6103800"/>
            <a:ext cx="4723920" cy="304920"/>
            <a:chOff x="2171880" y="6103800"/>
            <a:chExt cx="4723920" cy="304920"/>
          </a:xfrm>
        </p:grpSpPr>
        <p:sp>
          <p:nvSpPr>
            <p:cNvPr id="245" name=""/>
            <p:cNvSpPr/>
            <p:nvPr/>
          </p:nvSpPr>
          <p:spPr>
            <a:xfrm>
              <a:off x="2233440" y="6381000"/>
              <a:ext cx="4662360" cy="273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824520" y="6103800"/>
              <a:ext cx="61560" cy="275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880" y="6158880"/>
              <a:ext cx="123840" cy="249840"/>
            </a:xfrm>
            <a:prstGeom prst="upArrow">
              <a:avLst>
                <a:gd name="adj1" fmla="val 50000"/>
                <a:gd name="adj2" fmla="val 50436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graphicFrame>
        <p:nvGraphicFramePr>
          <p:cNvPr id="248" name=""/>
          <p:cNvGraphicFramePr/>
          <p:nvPr/>
        </p:nvGraphicFramePr>
        <p:xfrm>
          <a:off x="1965240" y="1508040"/>
          <a:ext cx="5367600" cy="457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5240" y="1508040"/>
                    <a:ext cx="5367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2103480" y="4114800"/>
            <a:ext cx="4594320" cy="1265040"/>
            <a:chOff x="2103480" y="4114800"/>
            <a:chExt cx="4594320" cy="1265040"/>
          </a:xfrm>
        </p:grpSpPr>
        <p:sp>
          <p:nvSpPr>
            <p:cNvPr id="251" name=""/>
            <p:cNvSpPr/>
            <p:nvPr/>
          </p:nvSpPr>
          <p:spPr>
            <a:xfrm rot="5400000">
              <a:off x="5987880" y="4669920"/>
              <a:ext cx="1265040" cy="154800"/>
            </a:xfrm>
            <a:prstGeom prst="rightArrow">
              <a:avLst>
                <a:gd name="adj1" fmla="val 50000"/>
                <a:gd name="adj2" fmla="val 204302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03480" y="4114800"/>
              <a:ext cx="4542840" cy="1234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03480" y="4114800"/>
              <a:ext cx="51480" cy="124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9FE-34C0-4C48-839F-0A210085172E}" type="slidenum">
              <a:t>17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0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DE2 – by 902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move threads from KiWaitInListHead, KiWaitOutListHead and KiDispatcherReadyListHead and creates its own lists that it swaps in and out when it wants to give its own threads CPU tim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– by Peter Silberman &amp;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informed Journal Vol. 3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ew version 2 of FU. Hence the ‘To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es from IceSword and Blackligh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ption –pngh bypasses as of (06/26/06)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Blacklight  (F-Secur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ntiRootkit (BitDefender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elio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arkSpy does detection FUTo -ph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1D01-F63A-4A34-98E1-97136D69E8B5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To – Modifying PspCidT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removes itself from the PspCid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spCidTable’s indexes are the PIDs of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185-F790-4EF5-9EE0-6546784CF2A7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ter Silb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dergraduate College Student (*yuck*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dependent Security Research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FUTo, (soon to be released PAIMEIdiff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ributor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openRCE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(VISIT THE SIT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Jamie Bu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urrently Un-Employed…. </a:t>
            </a:r>
            <a:r>
              <a:rPr b="0" lang="en-US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oftware attes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 dete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Rootkits: Subverting the Windows Kern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-author of Shadow Walker proof-of-concept memory subversion rootki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ioneer of Direct Kernel Object Manipulation (DKOM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6A96-DE86-4A4E-B07B-9818158E6875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ndles are an index into the Handle Table for a particular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bjects represent processes, threads, tokens, events, ports, etc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must do the translation from a handle to an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very process has its own handle table to keep track of the handles it ow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37A-2941-4C1B-ABDF-5ED729B5DDC1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kd&gt; dt nt!_HANDLE_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0 TableCode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4 QuotaProcess                  : Ptr32 _E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8 UniqueProcessId            : Ptr32 V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c HandleTableLock           : [4]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1c HandleTableList             : _LIST_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4 HandleContentionEvent :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8 DebugInfo                      : Ptr32 _HANDLE_TRACE_DEBUG_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c ExtraInfoPages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0 FirstFree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4 LastFree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8 NextHandleNeedingPool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c HandleCount    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Flags     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StrictFIFO                      : Pos 0, 1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4C8-FEC1-4089-831F-2EBACFDDB9F0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3581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4800600"/>
            <a:ext cx="45720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915-82DA-407D-B02C-7FA210CAD5BB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555-54AD-40BB-903B-E3F46D56337B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ng Hidden Processes PID Brutefor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uteforces PIDs 0x0 - 0x4E1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s OpenThread on each PI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f Success store valid PI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lse Continue Loo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y differences are hidden process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ed Cross-View method or Difference Based Metho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B4CD-AF75-42F6-802C-DCD431C41A64}" type="slidenum">
              <a:t>24</a:t>
            </a:fld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EC77-D068-426A-81E8-11646F493908}" type="slidenum">
              <a:t>25</a:t>
            </a:fld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Design Though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to be an all stop shop for most common rootkit detectio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uses secure communication methods to prevent people from interfering with ou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is not developed with a GUI and does not require any runtime dll’s/frameworks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for both advanced users who want the files for research and beginners who just want to be rootkit f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D4A-05A1-4E66-83D5-7DDAF4954B06}" type="slidenum">
              <a:t>26</a:t>
            </a:fld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can run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XP – SP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 SP4 (Hasn’t been tested on earlier versions, feel free to donate copies and RAIDE will support all win2k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3 pre sp1 – Issues were found for post SP1 and support is currently in developmen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D9B-6EDD-47B1-BEC7-7FF4B879C67D}" type="slidenum">
              <a:t>27</a:t>
            </a:fld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 Communication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communication designed to thwart Crappy And Stupid Application Specific Attacks (CAS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uses Shared Memory segments to pass information kernel l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red Memory segment is randomly generat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mmunication uses randomly named events for signal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es randomly generated process nam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 spawned process looks like any other process spawned from userland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EB8-1274-44F6-A801-EAAEC8043FCF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What it is no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lacement for common sense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keep you rootkit free nor will it pick up every rootkit. It’s a cat and mous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find hidden files/directories/registry entries. There are no plans currently to suppor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does not restore driver IRPs/IDT/MSR h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at the moment identify hidden drivers, but there are plenty of applications out there to do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identify drivers hiding in plain sight as rootkits since they are not HIDDEN nor are they hiding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32B-BBDA-42B6-A626-DE1266DC0A67}" type="slidenum">
              <a:t>2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going to be cove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Quick Review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fine Rootkits &amp; Hoo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Userland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mport Address Table (I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xport Address Table (E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Kernel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KeServiceDescriptor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Entry (Index) Overw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/O Request Packet (IRP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nterrupt Descriptor 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Model Specific Registers (MSR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rocess Hiding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Old School DKOM (FU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School F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revious Detection Techniqu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ED19-C221-4481-AFDB-D3176DD5403A}" type="slidenum">
              <a:t>3</a:t>
            </a:fld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User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r mode check all “important” loaded modul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IA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point to the correct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don’t point to .reloc se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E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point within the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don’t point out of the .text sec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C63-A756-4231-ADD3-DA5721B247F1}" type="slidenum">
              <a:t>30</a:t>
            </a:fld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Kernel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Kernel mod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KiSystemServiceDescriptorTable (SSDT) function point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function pointers point within NTOSKRN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SSDT function’s have not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ntoskrnl off of disk and and compare the instru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DT make sure the handlers point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within the preamble of each IDT handler make sure no common inline methods i.e. jmp, ret etc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A32_SYSENTER_EIP MSR to make sure it points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mportant driver’s for IRPs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3C4-AC7C-41F8-A725-34AABFBEE861}" type="slidenum">
              <a:t>31</a:t>
            </a:fld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system for DeepDoor and UAY lik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w level NDIS hooks allow complete stealth command and control channel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ttackers have implemented their own TCP/IP stack in the Windows kernel and bypassed the existing stack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vides invisibility from personal firewalls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lows the attacker to communicate on non existent ports or on ports bound to other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e Alexander Tereskin’s  talk on bypassing personal firewall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D97-EBC4-4E0D-9A4F-36681FFC40C4}" type="slidenum">
              <a:t>32</a:t>
            </a:fld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can not be zeroed ou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is uniq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must not have false positiv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F438-126C-4173-B111-ACA8C2CF187B}" type="slidenum">
              <a:t>33</a:t>
            </a:fld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cate pointers to “ServiceTable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ained in all ETHR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den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awn a process with random nam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nds processes list visible to RAIDE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idden process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5AA-43FD-4669-BC7F-A8A4B3F68185}" type="slidenum">
              <a:t>34</a:t>
            </a:fld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Dumping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lows Security Analysts to reverse the executable or system file and see what it was doing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matter if the file is originally hidden on the H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 file is renamed and put in the working director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ing lets analysts bypass any packer protection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ote: sophisticated attack agents do not require the H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EF2-705C-4565-97D2-18F3A93FE885}" type="slidenum">
              <a:t>35</a:t>
            </a:fld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nsic Analysis of hooking modules or hidden proc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o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k is found in kernel and the hooking module was identified, rename it and dump it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idden process is found, dump the process and all dlls in the user space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is in BETA and not included in public rel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202-CABD-4B19-8AB7-E92EC588D972}" type="slidenum">
              <a:t>36</a:t>
            </a:fld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hook typ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 Types are as follow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SDT Overwrite / SSD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AT Overwrite / IA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AT Overwrite / EAT Inline / EAT Forward Hook (user and kernel mod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RP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DT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pen Block/ Characteristics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method being used to hide processe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urrent methods identified ar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spCidTable modific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CF9-BFF8-4DDE-9D17-A5B5CCBC8FCE}" type="slidenum">
              <a:t>37</a:t>
            </a:fld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 the process is hidden in both, the rootkit uses the FUTo meth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F3F-FC04-4553-A09F-C88D6709A995}" type="slidenum">
              <a:t>38</a:t>
            </a:fld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listing 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firewalls act very similar if not exactly like rootkit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whitelists drivers using signatures such as checksums and other value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the hooking driver matches a signature the user is notified that tampering with the hook could result in system failure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does NOT rely on behavioral analysis to identify firewalls, since any rootkit mimicking these behaviors would fool the system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AA8-8BDA-42BA-9857-3F6A495537A1}" type="slidenum">
              <a:t>39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a Rootki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s or Modifies existing execution paths of important operating system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key point of a rootkit is stealth our definition includes they must make an attempt to hide some action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s that do not hide themselves are not then using stealth methods and will be visible to administrative or forensic tools (i.e. DeviceTree from OSR) shows all non-hidden driver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59BF-EDDC-4F4C-BD39-6D76DD821B4A}" type="slidenum">
              <a:t>4</a:t>
            </a:fld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identified Firew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aspersky Internet Security 6.0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itDefender 9 Professional Plu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utpost Firewall Pro v3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-Secure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ZoneAlarm 6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Personal Firewall 4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rend Micro PC-Cillin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WinRoute 6.2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253 hooks installed by these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58E-B543-4659-839F-971AEBA595B0}" type="slidenum">
              <a:t>40</a:t>
            </a:fld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ID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: E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li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kit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the original value of inlined hooked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function pointers in the SSD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values of drivers whose EAT have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Process Op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cess hidden by DKOM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relinked to make the reappear in task manager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closed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a process is hidden using FUTo method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t is not safe to close or attempt to relink the proces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6B4-DFC8-4C2F-B4F4-33A5BFD5A589}" type="slidenum">
              <a:t>41</a:t>
            </a:fld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ank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– Bugcheck, greg h, pedram, uninformed/research’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ie – the HBG crew, eEye (liquid dietitians), Lil’ L, and uninform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5E4D-5A26-4D8E-9183-7980B85812C5}" type="slidenum">
              <a:t>42</a:t>
            </a:fld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7F41-0553-4BCB-A18E-4B9B282935CD}" type="slidenum">
              <a:t>43</a:t>
            </a:fld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Demo VM will hav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: (6 rootkits, no hand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SDT Overwrit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river EAT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den Proces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To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d…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inDb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ll on VMWar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682-ACFA-45A0-9D12-5DA58DDE95C5}" type="slidenum">
              <a:t>4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land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T h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reateRemoteThre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lobally hooking Windows messag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ing the Regist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858-683D-4F21-BF84-6E406CC1DFD6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AT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ode DLL’s and Kernel drivers both expor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port Address Table is a table of pointers to functions within a module that are callable by other modul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kernel mode will redirect every modified call to a hooked fun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user mode will redirect every call within that given process space but not system wid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tProcAddr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adLibrar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Kernel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dis*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BAB-A352-4F6A-B072-557B45720AAF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oking The Ker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perating system is global memory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rely on process contex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cept when portions of a driver are page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nel Object Hooking (KOH) is a great an example of pointer modifica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odification of function pointers to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llbac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river Unload routine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KOH introduces a very tough issue of detection since its hard to ascertain in a lot of cases where a pointer is suppose to poin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reg H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rootkit.com/newsread.php?newsid=50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B6D-6FB4-4964-9490-F205A78C3828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19560" y="2438280"/>
            <a:ext cx="990720" cy="2438280"/>
            <a:chOff x="5119560" y="2438280"/>
            <a:chExt cx="990720" cy="2438280"/>
          </a:xfrm>
        </p:grpSpPr>
        <p:sp>
          <p:nvSpPr>
            <p:cNvPr id="117" name=""/>
            <p:cNvSpPr/>
            <p:nvPr/>
          </p:nvSpPr>
          <p:spPr>
            <a:xfrm>
              <a:off x="5119560" y="2438280"/>
              <a:ext cx="990720" cy="243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19560" y="27432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19560" y="30477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9560" y="36576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9560" y="39621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19560" y="45720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57344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9560" y="304812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0280" y="3352680"/>
            <a:ext cx="129528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0280" y="3048120"/>
            <a:ext cx="12952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19560" y="3352680"/>
            <a:ext cx="5335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3080" y="4114800"/>
            <a:ext cx="17524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29400" y="4281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CreateFi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600200"/>
            <a:ext cx="759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688-4FC4-4381-B665-C74E0EEA6E0E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97120" y="2438280"/>
            <a:ext cx="2908440" cy="3049200"/>
            <a:chOff x="4497120" y="2438280"/>
            <a:chExt cx="2908440" cy="3049200"/>
          </a:xfrm>
        </p:grpSpPr>
        <p:sp>
          <p:nvSpPr>
            <p:cNvPr id="148" name=""/>
            <p:cNvSpPr/>
            <p:nvPr/>
          </p:nvSpPr>
          <p:spPr>
            <a:xfrm>
              <a:off x="5119560" y="2438280"/>
              <a:ext cx="990720" cy="2438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19560" y="27432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9560" y="30481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19560" y="36576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19560" y="39625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19560" y="45720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7120" y="304812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x25</a:t>
              </a:r>
              <a:endParaRPr b="0" lang="en-US" sz="16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19560" y="3048120"/>
              <a:ext cx="5335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0280" y="3352680"/>
              <a:ext cx="12952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0280" y="3048120"/>
              <a:ext cx="129528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19560" y="3352680"/>
              <a:ext cx="53352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53080" y="4114800"/>
              <a:ext cx="1752480" cy="685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9400" y="4281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CreateFi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48448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Service Descriptor Tab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791320" y="220968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562360" y="1752480"/>
            <a:ext cx="7596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BB5-EFD6-47A0-B83D-5A57CB80A075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6:59:27Z</dcterms:created>
  <dc:creator>Ohorovitz</dc:creator>
  <dc:description/>
  <dc:language>en-US</dc:language>
  <cp:lastModifiedBy> Peter</cp:lastModifiedBy>
  <dcterms:modified xsi:type="dcterms:W3CDTF">2006-08-03T00:06:04Z</dcterms:modified>
  <cp:revision>144</cp:revision>
  <dc:subject/>
  <dc:title>Reliable Windows Heap Exploits</dc:title>
</cp:coreProperties>
</file>