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F9D-73D2-4F25-8AD1-47B33800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012-FA63-4523-8112-D08F785B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FF5-2915-4A7F-897A-F0608ABD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B1D-F7C9-44DC-8E36-8E794B10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183-84F3-429A-B329-F77DACC9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269-9D53-455E-9F20-1FA49D80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A9E6-0E8F-4DA5-BDE5-BCD95D36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C1C-447A-4CCE-AAFE-81AF03C5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229-722E-4945-B77B-315B1773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1CDD-1903-4D4A-9057-3350ABD3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2A2-1DC0-4929-8525-171678C2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971-396A-4A12-A8D4-E4ECD746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D335-06EA-471A-AFF2-B90D323B90D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16T04:04:24Z</dcterms:created>
  <dc:creator>张钊</dc:creator>
  <dc:description/>
  <dc:language>en-US</dc:language>
  <cp:lastModifiedBy>张钊</cp:lastModifiedBy>
  <dcterms:modified xsi:type="dcterms:W3CDTF">2022-04-16T04:04:38Z</dcterms:modified>
  <cp:revision>1</cp:revision>
  <dc:subject/>
  <dc:title/>
</cp:coreProperties>
</file>