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BBAB-1F67-4CC6-94BE-FC3A91F531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BBCC-3035-4A76-9BBE-D7CB22E2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0F63-89B5-4B29-AD49-3AF6186E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BCCA-8A15-449B-8A4C-0234A34BBD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D36C-F7C5-4D2F-A454-3E608C80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D128-4F62-44D5-8043-E0FB8635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DD00-0468-4522-8BBF-DF52B1C9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FA4E-79A6-491A-97F8-D1109F4F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FF31-DB8E-4DA3-9AD7-06DB3540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F92D-13E0-4767-BC28-ED2D7509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897D-74D6-4DD0-AFB0-A0BECA4A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61A5-A6AD-49EE-ADC8-444A65C2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16B355-07A1-413C-BADA-89B7F9CBD9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58040" y="3492360"/>
            <a:ext cx="179244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787068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760" y="2828880"/>
            <a:ext cx="94615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2010" r="0" b="0"/>
          <a:stretch/>
        </p:blipFill>
        <p:spPr>
          <a:xfrm>
            <a:off x="0" y="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15080" y="142920"/>
            <a:ext cx="2428920" cy="74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58000" y="2928960"/>
            <a:ext cx="357120" cy="357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25800" y="4638600"/>
            <a:ext cx="4511880" cy="469800"/>
            <a:chOff x="3925800" y="4638600"/>
            <a:chExt cx="4511880" cy="469800"/>
          </a:xfrm>
        </p:grpSpPr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3925800" y="4638600"/>
              <a:ext cx="45118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9040" y="4643280"/>
              <a:ext cx="45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Let’s jump into a new dimension !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6480" y="3565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3240" y="4065480"/>
            <a:ext cx="165924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06360" y="4638600"/>
            <a:ext cx="1659240" cy="16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080" y="5572080"/>
            <a:ext cx="35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pen-source, cross-platform and f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oftware for temporal imag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uthors : Pierre Séroul &amp; David Sarr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oul Pierre</dc:creator>
  <dc:description/>
  <dc:language>en-US</dc:language>
  <cp:lastModifiedBy>Seroul Pierre</cp:lastModifiedBy>
  <cp:revision>0</cp:revision>
  <dc:subject/>
  <dc:title>Diapositive 1</dc:title>
</cp:coreProperties>
</file>