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A81F-D71B-454E-A188-0CE1BC48E5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CBA9B-26EA-478A-911E-30D11E4E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59E2-15E9-4F2E-922C-32CE855C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EE3EE-F70D-4431-A1D2-3215E8B6D3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BC4AE-D9EF-4A82-86BF-CE1177B8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6732F-4F5A-4282-AE20-A730A1D7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F264-74E2-4834-B0F7-E46B0F84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2542-24CE-4474-8A7A-62D44C7F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DF0F-F948-4707-B490-A61FB1A7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8B913-5960-4FB4-94FD-BDBCB09D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8FCA7-3AAF-4DBE-9F1C-C57B5F64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86BB-269E-49BA-BD1D-363DF149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76D76D-4E05-44B3-B21E-7EEA698253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358040" y="3492360"/>
            <a:ext cx="1792440" cy="1798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7870680" cy="315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760" y="2828880"/>
            <a:ext cx="9461520" cy="220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52010" r="0" b="0"/>
          <a:stretch/>
        </p:blipFill>
        <p:spPr>
          <a:xfrm>
            <a:off x="0" y="0"/>
            <a:ext cx="23572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715080" y="142920"/>
            <a:ext cx="2428920" cy="74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858000" y="2928960"/>
            <a:ext cx="357120" cy="3571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925800" y="4638600"/>
            <a:ext cx="4511880" cy="469800"/>
            <a:chOff x="3925800" y="4638600"/>
            <a:chExt cx="4511880" cy="469800"/>
          </a:xfrm>
        </p:grpSpPr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3925800" y="4638600"/>
              <a:ext cx="45118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929040" y="4643280"/>
              <a:ext cx="450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Let’s jump into a new dimension !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-6480" y="3565440"/>
            <a:ext cx="172584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33240" y="4065480"/>
            <a:ext cx="1659240" cy="181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206360" y="4638600"/>
            <a:ext cx="1659240" cy="1652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72080" y="5572080"/>
            <a:ext cx="357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Open-source, cross-platform and fr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oftware for temporal imag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uthors : Pierre Séroul &amp; David Sarru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oul Pierre</dc:creator>
  <dc:description/>
  <dc:language>en-US</dc:language>
  <cp:lastModifiedBy>Seroul Pierre</cp:lastModifiedBy>
  <cp:revision>0</cp:revision>
  <dc:subject/>
  <dc:title>Diapositive 1</dc:title>
</cp:coreProperties>
</file>