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BCBA72-C41D-46ED-AA27-5FD7A6BCD3B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8AA908-631B-4A84-9FC2-D5E92D3ED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2D5B82-DCA1-4C13-890D-ADB8BE630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098DF3-C7FF-49EA-B85A-165275E9CE9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528CC1-B11B-4297-A206-DE9CEA5B8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E527CD-46F9-45ED-A565-1C00AEA59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98885F-A84C-49F9-A328-A02DF095E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1DB9FD-8773-4BBE-B6F1-178F574D7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D0762B-49DD-43D8-AD74-8B7624E39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D24B0B-4563-43C3-987D-F502F1FF3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3ECDED-26F7-4A93-98CF-51D13B711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D103A0-BAF1-421F-B27F-967CD62B6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lnSpc>
                <a:spcPct val="9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08640"/>
            <a:ext cx="28958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67EEAFC-5E56-4FB6-BA28-130E61CB8001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358040" y="3492360"/>
            <a:ext cx="1792440" cy="17989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82440"/>
            <a:ext cx="7870680" cy="31575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-158760" y="2828880"/>
            <a:ext cx="9461520" cy="22068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rcRect l="0" t="52010" r="0" b="0"/>
          <a:stretch/>
        </p:blipFill>
        <p:spPr>
          <a:xfrm>
            <a:off x="0" y="0"/>
            <a:ext cx="2357280" cy="10000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6715080" y="142920"/>
            <a:ext cx="2428920" cy="7412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6858000" y="2928960"/>
            <a:ext cx="357120" cy="357120"/>
          </a:xfrm>
          <a:prstGeom prst="rect">
            <a:avLst/>
          </a:prstGeom>
          <a:ln w="0">
            <a:noFill/>
          </a:ln>
        </p:spPr>
      </p:pic>
      <p:grpSp>
        <p:nvGrpSpPr>
          <p:cNvPr id="47" name=""/>
          <p:cNvGrpSpPr/>
          <p:nvPr/>
        </p:nvGrpSpPr>
        <p:grpSpPr>
          <a:xfrm>
            <a:off x="3925800" y="4638600"/>
            <a:ext cx="4511880" cy="469800"/>
            <a:chOff x="3925800" y="4638600"/>
            <a:chExt cx="4511880" cy="469800"/>
          </a:xfrm>
        </p:grpSpPr>
        <p:pic>
          <p:nvPicPr>
            <p:cNvPr id="48" name="" descr=""/>
            <p:cNvPicPr/>
            <p:nvPr/>
          </p:nvPicPr>
          <p:blipFill>
            <a:blip r:embed="rId7"/>
            <a:stretch/>
          </p:blipFill>
          <p:spPr>
            <a:xfrm>
              <a:off x="3925800" y="4638600"/>
              <a:ext cx="4511880" cy="46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3929040" y="4643280"/>
              <a:ext cx="450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Calibri"/>
                </a:rPr>
                <a:t>Let’s jump into a new dimension !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0" name="" descr=""/>
          <p:cNvPicPr/>
          <p:nvPr/>
        </p:nvPicPr>
        <p:blipFill>
          <a:blip r:embed="rId8"/>
          <a:stretch/>
        </p:blipFill>
        <p:spPr>
          <a:xfrm>
            <a:off x="-6480" y="3565440"/>
            <a:ext cx="1725840" cy="17258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9"/>
          <a:stretch/>
        </p:blipFill>
        <p:spPr>
          <a:xfrm>
            <a:off x="633240" y="4065480"/>
            <a:ext cx="1659240" cy="18176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0"/>
          <a:stretch/>
        </p:blipFill>
        <p:spPr>
          <a:xfrm>
            <a:off x="1206360" y="4638600"/>
            <a:ext cx="1659240" cy="16527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572080" y="5572080"/>
            <a:ext cx="3571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Open-source, cross-platform and fre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Software for temporal images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Authors : Pierre Séroul &amp; David Sarru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eroul Pierre</dc:creator>
  <dc:description/>
  <dc:language>en-US</dc:language>
  <cp:lastModifiedBy>Seroul Pierre</cp:lastModifiedBy>
  <cp:revision>0</cp:revision>
  <dc:subject/>
  <dc:title>Diapositive 1</dc:title>
</cp:coreProperties>
</file>