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652-C2E4-41E3-8961-1DC3081B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2B7-621A-47CA-B55B-59E23581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1FB-5C2C-4DF9-88A3-90384B97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BE6-B6FE-4DE6-86C2-1D7614D8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390-90E1-4846-98A3-FAFDADDB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A64-1B40-440F-B4BA-76AA5F49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DD4-69EC-477D-A0F0-EBB5DFAE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D51-4366-44E2-AB78-807729B2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72B-7F5E-42AA-8C76-838AA69C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B6C-72A6-4E57-B99C-6574170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BCC-A89B-4596-8F32-014DBF3C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323-52A0-4424-8D7F-9BA21AD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CCAD43-2937-49D1-B2F6-74194F7D1AE0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hello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1T03:00:04Z</dcterms:created>
  <dc:creator>飞跃 任</dc:creator>
  <dc:description/>
  <dc:language>en-US</dc:language>
  <cp:lastModifiedBy>飞跃 任</cp:lastModifiedBy>
  <dcterms:modified xsi:type="dcterms:W3CDTF">2024-11-21T03:01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