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BBA-3E81-4170-BE8D-484A6610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A6C-D1C9-4788-B31C-EDA9E783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A2F-C673-4F92-977A-6BD44F03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ADD-E442-49BF-AE9A-6ED8E0F5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6FA-0A7F-48D6-9455-AB51CEB0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4CA-2494-455E-9926-53085D4C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839-21E3-47EE-98F7-0C5B479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2FE-C4F3-42C9-BE57-E93F4B1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0EB-3377-482D-A63D-CF34379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E86-8A77-447E-8716-0167258C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E1B-4704-46A0-B467-D5076B5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6DF-EC64-4DC1-90EC-FD373B4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733646-6C68-406F-B763-6E0BEAC3D04D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hello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1T03:00:04Z</dcterms:created>
  <dc:creator>飞跃 任</dc:creator>
  <dc:description/>
  <dc:language>en-US</dc:language>
  <cp:lastModifiedBy>飞跃 任</cp:lastModifiedBy>
  <dcterms:modified xsi:type="dcterms:W3CDTF">2024-11-21T03:01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