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ttlll@sibmail.com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9-10-28T17:11:24.827000000" idx="1">
    <p:pos x="10" y="10"/>
    <p:text>Test comme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move the slide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471-07D1-49FA-ABDC-929CF4F0A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C0F-ECB7-4040-894F-8021CC43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96D2-01B2-4791-8947-EFE180BB6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F72F-22B9-4496-A1E6-443270877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4CAA-B105-43D2-AB5E-FDB262B62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53D4-CAC2-4619-8BE8-701E4719F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DC09-9762-4DF4-BE51-BEFAB657B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68B1-6FDD-4A0E-B2E8-CF6883F94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F375-25C1-4A3F-894B-6B0327A12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5165-D174-4226-ADCC-A9B945860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DD48-7B8C-44BB-B1FE-F30D708B2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F564-4109-4EEA-80C9-1F28ECA64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CFAD-F59C-46AA-9B35-99729CDDA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17F0-B528-410F-A4A9-3DFBDF93C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74A-7306-4850-95BF-7615499BBA6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Computer Science   •   Robert Sedgewick and Kevin Wayne   •   Copyright © 2006   •   http://www.cs.Princeton.EDU/IntroC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Rectangle 44"/>
          <p:cNvSpPr/>
          <p:nvPr/>
        </p:nvSpPr>
        <p:spPr>
          <a:xfrm>
            <a:off x="7590600" y="51055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7773840" y="484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20400" y="2671920"/>
            <a:ext cx="7162920" cy="30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Rectangle 6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Rectangle 6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Rectangle 6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6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Rectangle 7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Rectangle 7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Line 7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Rectangle 77"/>
          <p:cNvSpPr/>
          <p:nvPr/>
        </p:nvSpPr>
        <p:spPr>
          <a:xfrm>
            <a:off x="7590600" y="51055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Line 78"/>
          <p:cNvSpPr/>
          <p:nvPr/>
        </p:nvSpPr>
        <p:spPr>
          <a:xfrm flipV="1">
            <a:off x="7773840" y="484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79"/>
          <p:cNvSpPr/>
          <p:nvPr/>
        </p:nvSpPr>
        <p:spPr>
          <a:xfrm>
            <a:off x="431964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Line 80"/>
          <p:cNvSpPr/>
          <p:nvPr/>
        </p:nvSpPr>
        <p:spPr>
          <a:xfrm flipV="1">
            <a:off x="455616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Oval 81"/>
          <p:cNvSpPr/>
          <p:nvPr/>
        </p:nvSpPr>
        <p:spPr>
          <a:xfrm>
            <a:off x="4398840" y="4138560"/>
            <a:ext cx="35748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39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Line 40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70720" y="510228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Line 35"/>
          <p:cNvSpPr/>
          <p:nvPr/>
        </p:nvSpPr>
        <p:spPr>
          <a:xfrm flipV="1">
            <a:off x="1355760" y="4838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248616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Line 40"/>
          <p:cNvSpPr/>
          <p:nvPr/>
        </p:nvSpPr>
        <p:spPr>
          <a:xfrm flipV="1">
            <a:off x="272268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Oval 41"/>
          <p:cNvSpPr/>
          <p:nvPr/>
        </p:nvSpPr>
        <p:spPr>
          <a:xfrm>
            <a:off x="256212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43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300924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40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43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300924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36"/>
          <p:cNvSpPr/>
          <p:nvPr/>
        </p:nvSpPr>
        <p:spPr>
          <a:xfrm>
            <a:off x="3913920" y="5103720"/>
            <a:ext cx="398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37"/>
          <p:cNvSpPr/>
          <p:nvPr/>
        </p:nvSpPr>
        <p:spPr>
          <a:xfrm flipV="1">
            <a:off x="409572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38"/>
          <p:cNvSpPr/>
          <p:nvPr/>
        </p:nvSpPr>
        <p:spPr>
          <a:xfrm>
            <a:off x="3406680" y="5103720"/>
            <a:ext cx="5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39"/>
          <p:cNvSpPr/>
          <p:nvPr/>
        </p:nvSpPr>
        <p:spPr>
          <a:xfrm flipV="1">
            <a:off x="364320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Oval 40"/>
          <p:cNvSpPr/>
          <p:nvPr/>
        </p:nvSpPr>
        <p:spPr>
          <a:xfrm>
            <a:off x="348300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3009240" y="5103720"/>
            <a:ext cx="398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ectangle 34"/>
          <p:cNvSpPr/>
          <p:nvPr/>
        </p:nvSpPr>
        <p:spPr>
          <a:xfrm>
            <a:off x="2955960" y="5103720"/>
            <a:ext cx="50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Oval 36"/>
          <p:cNvSpPr/>
          <p:nvPr/>
        </p:nvSpPr>
        <p:spPr>
          <a:xfrm>
            <a:off x="3022560" y="4137120"/>
            <a:ext cx="357120" cy="357120"/>
          </a:xfrm>
          <a:prstGeom prst="ellipse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inary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inary search.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sorted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find index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ch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or report that no such index exists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variant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mainta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lo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l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hi]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.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nary search for 33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800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057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600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2514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2971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886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3429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3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5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5257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61722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Rectangle 15"/>
          <p:cNvSpPr/>
          <p:nvPr/>
        </p:nvSpPr>
        <p:spPr>
          <a:xfrm>
            <a:off x="66294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75438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70866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1143000" y="4557600"/>
            <a:ext cx="457200" cy="19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Rectangle 19"/>
          <p:cNvSpPr/>
          <p:nvPr/>
        </p:nvSpPr>
        <p:spPr>
          <a:xfrm>
            <a:off x="4800600" y="4108320"/>
            <a:ext cx="457200" cy="42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2057400" y="4108320"/>
            <a:ext cx="457200" cy="42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1600200" y="4108320"/>
            <a:ext cx="457200" cy="4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2514600" y="4108320"/>
            <a:ext cx="457200" cy="420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Rectangle 23"/>
          <p:cNvSpPr/>
          <p:nvPr/>
        </p:nvSpPr>
        <p:spPr>
          <a:xfrm>
            <a:off x="2971800" y="4108320"/>
            <a:ext cx="457200" cy="420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3886200" y="4108320"/>
            <a:ext cx="457200" cy="420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3429000" y="4108320"/>
            <a:ext cx="457200" cy="420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4343400" y="4108320"/>
            <a:ext cx="457200" cy="4208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5715000" y="4108320"/>
            <a:ext cx="457200" cy="420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28"/>
          <p:cNvSpPr/>
          <p:nvPr/>
        </p:nvSpPr>
        <p:spPr>
          <a:xfrm>
            <a:off x="5257800" y="4108320"/>
            <a:ext cx="457200" cy="420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29"/>
          <p:cNvSpPr/>
          <p:nvPr/>
        </p:nvSpPr>
        <p:spPr>
          <a:xfrm>
            <a:off x="6172200" y="4108320"/>
            <a:ext cx="457200" cy="420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Rectangle 30"/>
          <p:cNvSpPr/>
          <p:nvPr/>
        </p:nvSpPr>
        <p:spPr>
          <a:xfrm>
            <a:off x="6629400" y="4108320"/>
            <a:ext cx="457200" cy="420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Rectangle 31"/>
          <p:cNvSpPr/>
          <p:nvPr/>
        </p:nvSpPr>
        <p:spPr>
          <a:xfrm>
            <a:off x="7543800" y="4108320"/>
            <a:ext cx="457200" cy="420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Rectangle 32"/>
          <p:cNvSpPr/>
          <p:nvPr/>
        </p:nvSpPr>
        <p:spPr>
          <a:xfrm>
            <a:off x="7086600" y="4108320"/>
            <a:ext cx="457200" cy="4208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Rectangle 33"/>
          <p:cNvSpPr/>
          <p:nvPr/>
        </p:nvSpPr>
        <p:spPr>
          <a:xfrm>
            <a:off x="1143000" y="4108320"/>
            <a:ext cx="457200" cy="420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2955960" y="5103720"/>
            <a:ext cx="50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35"/>
          <p:cNvSpPr/>
          <p:nvPr/>
        </p:nvSpPr>
        <p:spPr>
          <a:xfrm flipV="1">
            <a:off x="3191040" y="483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28:24Z</dcterms:created>
  <dc:creator>Kevin Wayne</dc:creator>
  <dc:description/>
  <dc:language>en-US</dc:language>
  <cp:lastModifiedBy>tttlll@sibmail.com</cp:lastModifiedBy>
  <dcterms:modified xsi:type="dcterms:W3CDTF">2019-10-28T10:15:31Z</dcterms:modified>
  <cp:revision>5</cp:revision>
  <dc:subject/>
  <dc:title>Binary Search</dc:title>
</cp:coreProperties>
</file>