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0C6-9309-4B9B-80BC-C0984E1D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CAB-1CB8-41D1-B7CD-0294753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98A-883D-4635-A69B-28AA55D4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C94-0846-43EB-84C4-84AC124D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8C4-A46C-40DF-8A80-9796043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B3D-0724-48FC-B02A-192733E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F49-2AE0-414F-914A-3361EA4E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D30-BCD6-4167-910F-BB73183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589-DB7F-46E2-943B-0FF662A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675-B625-4CF6-9B31-113AB234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A0D-49AC-446F-9ABF-E5FD44BB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02C-BF40-42A8-B86B-123688A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4B2-3780-4910-83DE-8C959BF6A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4" name="Rectangle 5"/>
            <p:cNvSpPr/>
            <p:nvPr/>
          </p:nvSpPr>
          <p:spPr>
            <a:xfrm>
              <a:off x="4191120" y="5473800"/>
              <a:ext cx="2486160" cy="1087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5-26T12:18:20Z</dcterms:modified>
  <cp:revision>2</cp:revision>
  <dc:subject/>
  <dc:title>PowerPoint Presentation</dc:title>
</cp:coreProperties>
</file>