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7C9-5AD7-40A3-AE92-05A61FCB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AD5-DCF6-47A1-AD88-9C78FC1A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545-772E-4EDE-8E3A-BCD0D70C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251-DEBB-4220-88AF-E2FFA52C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51BA-834F-4C25-BB0A-CD412DDF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2B0-5F78-40F3-A338-DC8493E8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FF8-292D-4C52-B467-AEAEF35E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F50-F5CD-40F7-9780-FA41C591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3C0-2CED-41E5-9145-131775FB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D7A-B03B-4FC9-B933-E9C3B048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F6B-70CC-4152-8E58-8F8183F6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A18-6CF9-458E-B317-9620D2E5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ffffff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SzPct val="4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AED2-2985-46F1-B9C2-9241909F26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16200000"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AB1F-DF1E-44F3-A2D0-518297354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 picture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3B09-A490-44BD-A9BA-F96A218C8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ate and tim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9T10:34:47Z</dcterms:created>
  <dc:creator>AbdulMannan Fazil</dc:creator>
  <dc:description/>
  <dc:language>en-US</dc:language>
  <cp:lastModifiedBy>AbdulMannan Fazil</cp:lastModifiedBy>
  <cp:lastPrinted>2019-09-19T15:34:47Z</cp:lastPrinted>
  <dcterms:modified xsi:type="dcterms:W3CDTF">2019-09-19T11:20:48Z</dcterms:modified>
  <cp:revision>1</cp:revision>
  <dc:subject/>
  <dc:title>PowerPoint Presentation</dc:title>
</cp:coreProperties>
</file>