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91E-84DA-429F-A614-4EDA9292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09040" y="1034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D27-6E34-42E3-B671-6EA2D72B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2608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2CB-FAB9-4EEA-BB78-D64D4CEF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9148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73920" y="7977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0904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09148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73920" y="10342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CB9-54E2-4ECF-A65F-D23FF510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09040" y="79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5D1-4449-4B57-9D2B-4541002F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39A-9CA5-45A3-9C4E-CC0EF2F7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13C-AD5C-4FDE-B070-4815A53F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0D1-43D0-474D-975E-B6876B02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00320" y="4960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177-6CE0-4A01-A652-CFD7444B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237-BA1B-4C59-8348-B024A054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26080" y="10342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492-A60B-43FC-B27A-FA023621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00320" y="496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0904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26080" y="7977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09040" y="10342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67D-D80B-4B4A-AA68-2AE7CDF1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 rot="162000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920880"/>
                <a:tab algn="l" pos="928800"/>
                <a:tab algn="l" pos="936720"/>
                <a:tab algn="l" pos="944640"/>
                <a:tab algn="l" pos="952560"/>
                <a:tab algn="l" pos="960480"/>
                <a:tab algn="l" pos="968400"/>
                <a:tab algn="l" pos="976320"/>
                <a:tab algn="l" pos="984240"/>
                <a:tab algn="l" pos="992160"/>
                <a:tab algn="l" pos="1000080"/>
                <a:tab algn="l" pos="1008000"/>
                <a:tab algn="l" pos="1015920"/>
                <a:tab algn="l" pos="1023840"/>
                <a:tab algn="l" pos="1031760"/>
                <a:tab algn="l" pos="1039680"/>
                <a:tab algn="l" pos="1047600"/>
                <a:tab algn="l" pos="1055520"/>
                <a:tab algn="l" pos="1063800"/>
                <a:tab algn="l" pos="107172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 rot="16200000"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fld id="{28298E0D-F194-40C2-9120-226C31171A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3E79E0FA-01F4-42B1-9284-D6836BD07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New shape"/>
          <p:cNvSpPr/>
          <p:nvPr/>
        </p:nvSpPr>
        <p:spPr>
          <a:xfrm>
            <a:off x="127080" y="127080"/>
            <a:ext cx="2539800" cy="3174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Sample tex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</a:rPr>
              <a:t>Sample text </a:t>
            </a:r>
            <a:r>
              <a:rPr b="0" lang="en-US" sz="4800" spc="-1" strike="noStrike">
                <a:solidFill>
                  <a:srgbClr val="4f81bd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28T12:21:07Z</dcterms:created>
  <dc:creator/>
  <dc:description/>
  <dc:language>en-US</dc:language>
  <cp:lastModifiedBy/>
  <cp:lastPrinted>2019-06-28T17:21:07Z</cp:lastPrinted>
  <dcterms:modified xsi:type="dcterms:W3CDTF">2019-09-19T12:50:54Z</dcterms:modified>
  <cp:revision>1</cp:revision>
  <dc:subject/>
  <dc:title/>
</cp:coreProperties>
</file>