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71DE-C818-48E4-8007-B24EDE421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3839-CA68-4B6D-8764-817587985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5B2D-8988-4F67-AB78-C409507C1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29ED-BDEB-42AD-8BAE-6F3F0A7BA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07DB-35BF-48C2-9699-3293CD505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C34E-1072-4131-B905-D4D793873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FE74-6A00-4D9F-8CCA-D3EC38033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05F6-0052-4C11-BC47-4ACB05E6B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103F-18D8-41CB-B025-D95BDC51B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45AD-1AD1-4000-8511-A1084594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F068-0E6D-4030-B650-40E7AC44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CB03-DFA7-4364-ADFA-31123840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F6B93-6112-424C-815B-46E98E4BD6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1219320" y="9144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Welcome to Aspose.Slides – Slid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1219320" y="9144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Welcome to Aspose.Slides – Slid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4T12:58:26Z</dcterms:created>
  <dc:creator>Muhammad Iqbal</dc:creator>
  <dc:description>This presentation is a sample Aspose presentation.</dc:description>
  <cp:keywords>demo example</cp:keywords>
  <dc:language>en-US</dc:language>
  <cp:lastModifiedBy>Shoaib</cp:lastModifiedBy>
  <dcterms:modified xsi:type="dcterms:W3CDTF">2014-03-18T17:06:37Z</dcterms:modified>
  <cp:revision>10</cp:revision>
  <dc:subject>Demo Presentation</dc:subject>
  <dc:title>Sample 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1">
    <vt:lpwstr>Value1</vt:lpwstr>
  </property>
  <property fmtid="{D5CDD505-2E9C-101B-9397-08002B2CF9AE}" pid="3" name="Custom2">
    <vt:lpwstr>Value2</vt:lpwstr>
  </property>
  <property fmtid="{D5CDD505-2E9C-101B-9397-08002B2CF9AE}" pid="4" name="Custom3">
    <vt:lpwstr>Value3</vt:lpwstr>
  </property>
</Properties>
</file>