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8B4-771C-4D77-A2E0-1071579B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C57-910E-4E73-A3F6-53C39476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534-0C1B-4762-B99D-49A3D268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114-23DB-489C-B253-BA3C661B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8B8-6F2A-45B5-916E-E8768790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52F-AA77-46C6-BBB6-63D33DFD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4B6-66A4-4CD7-B5D1-EA1C175B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9C2-F2BF-41CF-973F-84453D0E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517-BE27-4279-84AA-7935C9C6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C52-006E-4C59-8F60-170C5888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1DA-89F3-488B-BECD-AA19F3F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8BC-4638-4677-93B9-DF1DF6D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D7EC-A46A-4E4C-894B-19BF842BA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18:50:15Z</dcterms:created>
  <dc:creator>Serge</dc:creator>
  <dc:description/>
  <dc:language>en-US</dc:language>
  <cp:lastModifiedBy>Сергей</cp:lastModifiedBy>
  <dcterms:modified xsi:type="dcterms:W3CDTF">2021-12-17T16:36:39Z</dcterms:modified>
  <cp:revision>8</cp:revision>
  <dc:subject/>
  <dc:title>No Transition</dc:title>
</cp:coreProperties>
</file>