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DB1-A3B9-48AC-B181-BF590336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F65-4208-4A7E-8EB7-00707DA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73D-0201-41F9-B7C7-015F8863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670-E3C4-4E2B-A0F9-BACA0FE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BC2-F25F-4C45-8F7F-596E153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84A-2A87-4B11-98A2-BD086DF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5BF-301F-4972-B501-E03E7DC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F45-66EF-42C8-BCC3-9D61707A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CA8-81F5-4203-B9BC-D8B2245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169-069B-44CD-ADD7-1D28B25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B15-FD29-4DDD-A2D2-3130497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555-2554-46AA-BF99-D4835FD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A246-F383-40CF-9CE8-E3855FE44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2193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Welcome to Aspose.Slides – Slid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2:58:26Z</dcterms:created>
  <dc:creator>Muhammad Iqbal</dc:creator>
  <dc:description>This presentation is a sample Aspose presentation.</dc:description>
  <cp:keywords>demo example</cp:keywords>
  <dc:language>en-US</dc:language>
  <cp:lastModifiedBy>Shoaib</cp:lastModifiedBy>
  <dcterms:modified xsi:type="dcterms:W3CDTF">2014-03-18T17:06:37Z</dcterms:modified>
  <cp:revision>10</cp:revision>
  <dc:subject>Demo Presentation</dc:subject>
  <dc:title>Sampl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1">
    <vt:lpwstr>Value1</vt:lpwstr>
  </property>
  <property fmtid="{D5CDD505-2E9C-101B-9397-08002B2CF9AE}" pid="3" name="Custom2">
    <vt:lpwstr>Value2</vt:lpwstr>
  </property>
  <property fmtid="{D5CDD505-2E9C-101B-9397-08002B2CF9AE}" pid="4" name="Custom3">
    <vt:lpwstr>Value3</vt:lpwstr>
  </property>
</Properties>
</file>