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DED-66BE-4311-8C50-E5227317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973-D424-4F88-8944-74D1624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F82-6698-494F-AB70-94FC104F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75A-EA1B-4716-A3F3-EB419171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E38-71FC-43BE-A882-54DC675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A41-E162-4636-BE1B-997AE5FF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ADE-58C9-4248-A178-8F00EAF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17F-4BE1-4EAA-86EE-93F68A3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E4B-AAD9-4D19-BEE0-EB08A17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DAD-EDEC-4F0C-B9A7-60A11C7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61F-D6DC-409D-8C5B-5C29EFC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94D-B180-4256-83C8-C3D8EDB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BDC-BE26-4914-90F6-9838FA6BB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3" name="Rectangle 5"/>
            <p:cNvSpPr/>
            <p:nvPr/>
          </p:nvSpPr>
          <p:spPr>
            <a:xfrm>
              <a:off x="4191120" y="5473440"/>
              <a:ext cx="2486160" cy="108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6-02T20:29:03Z</dcterms:modified>
  <cp:revision>3</cp:revision>
  <dc:subject/>
  <dc:title>PowerPoint Presentation</dc:title>
</cp:coreProperties>
</file>