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2031-387A-4834-ACBE-56190FA8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240C-C4C4-492E-AE67-17C8B801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31C-40BF-4536-820C-A0F24F29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2C39-CC42-4D45-8754-444DD86E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E337-9B9C-4474-9BEE-9B23C6B8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478-9ECD-42F6-BB27-6401F188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1C67-C0C8-462B-88AF-0F2FDB4B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69A0-10CA-4C01-B662-23F98822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E6F7-CE11-4D87-8D64-C4247D8E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5908-591A-46E3-BFC6-CF47B11D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D7B-2293-41B8-9976-4BAF29C5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DCA-9990-4CBB-BCD5-919A8459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4D50-69EC-4907-8B22-8D846F02C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035080" y="124920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7"/>
          <p:cNvGrpSpPr/>
          <p:nvPr/>
        </p:nvGrpSpPr>
        <p:grpSpPr>
          <a:xfrm>
            <a:off x="4191120" y="5181480"/>
            <a:ext cx="4762440" cy="1398600"/>
            <a:chOff x="4191120" y="5181480"/>
            <a:chExt cx="4762440" cy="1398600"/>
          </a:xfrm>
        </p:grpSpPr>
        <p:sp>
          <p:nvSpPr>
            <p:cNvPr id="43" name="Rectangle 5"/>
            <p:cNvSpPr/>
            <p:nvPr/>
          </p:nvSpPr>
          <p:spPr>
            <a:xfrm>
              <a:off x="4191120" y="5473440"/>
              <a:ext cx="2486160" cy="1087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Oval 6"/>
            <p:cNvSpPr/>
            <p:nvPr/>
          </p:nvSpPr>
          <p:spPr>
            <a:xfrm>
              <a:off x="7156440" y="5181480"/>
              <a:ext cx="1797120" cy="13986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7:25Z</dcterms:created>
  <dc:creator>Nausherwan Aslam</dc:creator>
  <dc:description/>
  <dc:language>en-US</dc:language>
  <cp:lastModifiedBy>Jawad Ahmed</cp:lastModifiedBy>
  <dcterms:modified xsi:type="dcterms:W3CDTF">2016-06-02T20:29:03Z</dcterms:modified>
  <cp:revision>3</cp:revision>
  <dc:subject/>
  <dc:title>PowerPoint Presentation</dc:title>
</cp:coreProperties>
</file>