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532D-104F-40D1-8803-AB19E009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979D-178E-42B2-8186-0BF50F30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1BCE-E274-474D-ABDE-E2E11A3A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6308-E650-4666-994B-9A4F6D22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6A99-31C9-4B9F-A06A-1366F9EC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3134-DF00-4F27-AD55-EE128E2A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7F28-9E64-402D-AEF5-BE44F225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FDD1-FF9F-4E31-B0BF-3E07DBB6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01EA-40EE-437D-A808-FAD70960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F2B0-3982-45A2-8DEC-6E25BFBF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E885-1CAC-4510-AEEF-75241A55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6E37-1EAD-4A2F-BA97-B5598867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7F90-D011-4D5E-94D0-41658DCCC0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2035080" y="124920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7"/>
          <p:cNvGrpSpPr/>
          <p:nvPr/>
        </p:nvGrpSpPr>
        <p:grpSpPr>
          <a:xfrm>
            <a:off x="4191120" y="5181480"/>
            <a:ext cx="4762440" cy="1398600"/>
            <a:chOff x="4191120" y="5181480"/>
            <a:chExt cx="4762440" cy="1398600"/>
          </a:xfrm>
        </p:grpSpPr>
        <p:sp>
          <p:nvSpPr>
            <p:cNvPr id="43" name="Rectangle 5"/>
            <p:cNvSpPr/>
            <p:nvPr/>
          </p:nvSpPr>
          <p:spPr>
            <a:xfrm>
              <a:off x="4191120" y="5473440"/>
              <a:ext cx="2486160" cy="10875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Oval 6"/>
            <p:cNvSpPr/>
            <p:nvPr/>
          </p:nvSpPr>
          <p:spPr>
            <a:xfrm>
              <a:off x="7156440" y="5181480"/>
              <a:ext cx="1797120" cy="13986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elc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Hello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13:27:25Z</dcterms:created>
  <dc:creator>Nausherwan Aslam</dc:creator>
  <dc:description/>
  <dc:language>en-US</dc:language>
  <cp:lastModifiedBy>Jawad Ahmed</cp:lastModifiedBy>
  <dcterms:modified xsi:type="dcterms:W3CDTF">2016-06-02T20:29:03Z</dcterms:modified>
  <cp:revision>3</cp:revision>
  <dc:subject/>
  <dc:title>PowerPoint Presentation</dc:title>
</cp:coreProperties>
</file>