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BBDB-D433-4FB3-AF43-190343F40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CD71-EB6E-4B64-872A-EC31C2360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FA58-D950-4F55-8F38-FF65AAF19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2693-2D15-490F-A07E-35F2C9DD1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9737-934D-4607-B604-D034CC94F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64C6-F082-420B-B979-A0F3DFAD5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BA94-3E55-4B21-A852-576A398CA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D65A-775B-4352-899D-F4DABEF84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66BA-0F2A-4509-A155-73208896B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03DA-0112-4786-B85E-0BB2468F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EE59-9AA6-4B14-8C5B-F269293A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252C-604A-4F87-BB90-2F6539B3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67223-2709-4938-B460-0E8E31F88E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609480" y="6094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953735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53735"/>
                </a:solidFill>
                <a:latin typeface="Calibri"/>
              </a:rPr>
              <a:t>Hi T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1371600" y="1905120"/>
            <a:ext cx="601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58ed5"/>
                </a:solidFill>
                <a:latin typeface="Calibri"/>
              </a:rPr>
              <a:t>Aspose.Slides for .NE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Group 7"/>
          <p:cNvGrpSpPr/>
          <p:nvPr/>
        </p:nvGrpSpPr>
        <p:grpSpPr>
          <a:xfrm>
            <a:off x="2324160" y="3608280"/>
            <a:ext cx="6057720" cy="2057400"/>
            <a:chOff x="2324160" y="3608280"/>
            <a:chExt cx="6057720" cy="2057400"/>
          </a:xfrm>
        </p:grpSpPr>
        <p:sp>
          <p:nvSpPr>
            <p:cNvPr id="44" name="Rectangle 5"/>
            <p:cNvSpPr/>
            <p:nvPr/>
          </p:nvSpPr>
          <p:spPr>
            <a:xfrm>
              <a:off x="2324160" y="4037760"/>
              <a:ext cx="3162240" cy="16002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Oval 6"/>
            <p:cNvSpPr/>
            <p:nvPr/>
          </p:nvSpPr>
          <p:spPr>
            <a:xfrm>
              <a:off x="6095880" y="3608280"/>
              <a:ext cx="2286000" cy="20574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Aspose.Slides for 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Welco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Hello Wor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13:27:25Z</dcterms:created>
  <dc:creator>Nausherwan Aslam</dc:creator>
  <dc:description/>
  <dc:language>en-US</dc:language>
  <cp:lastModifiedBy>Nausherwan Aslam</cp:lastModifiedBy>
  <dcterms:modified xsi:type="dcterms:W3CDTF">2014-02-21T13:30:45Z</dcterms:modified>
  <cp:revision>1</cp:revision>
  <dc:subject/>
  <dc:title>PowerPoint Presentation</dc:title>
</cp:coreProperties>
</file>