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BAAF-F908-4163-AE28-4E2E4620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B0A-D285-4093-9CFC-8588F10E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5DB-B016-44B6-B9DC-A37FFF6B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6CD-5F9C-4533-A8FC-D4107A25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878-EB55-44E8-866D-D587D414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102-FBE5-43D0-93B7-08565616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B69-CE3F-43F1-8B96-4C5105B9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80C2-B89F-477A-80F2-4A3C66A4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F5F-438F-4689-83D0-0F02AE23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83D7-D91B-4A11-91D5-5C0FC271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D8F-3BEE-4793-BD85-8FD05B48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F16-A7D5-4FB9-8E3A-AAD45941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EB1673-9811-47D5-A53E-0E4234A0A61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  <Paragraphs>0</Paragraphs>
  <Company>Our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Template Category</cp:category>
  <cp:contentType>Template Content</cp:contentType>
  <dcterms:created xsi:type="dcterms:W3CDTF">2006-08-16T00:00:00Z</dcterms:created>
  <dc:creator>Template Author</dc:creator>
  <dc:description>Created from template</dc:description>
  <cp:keywords>Keyword1 Keyword2 Keyword3</cp:keywords>
  <dc:language>en-US</dc:language>
  <cp:lastModifiedBy>skvtor</cp:lastModifiedBy>
  <dcterms:modified xsi:type="dcterms:W3CDTF">2013-03-29T14:47:07Z</dcterms:modified>
  <cp:revision>6</cp:revision>
  <dc:subject>Template Subject</dc:subject>
  <dc:title>Templat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</Properties>
</file>