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356A-F1DF-44CF-A3F0-28EEA6D94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D064-C6F4-4EBF-B98F-59B73C8A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FFB8-5838-49DF-A430-6AA88449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93F0-9A97-4972-A639-7606782D6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5A03-6003-477A-A343-EBC44522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994A-D48A-4E32-A5DA-53BD47D6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4348-3D8B-4182-949E-57DBA553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CA84-68EB-4128-94C4-1534394C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6B5C-46DA-4C54-A500-34444EE1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E231-5B71-4161-AD48-ED54EBD8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0BC0-380D-49AA-906A-424AF9A5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4ADA-D641-42D7-904C-4517DFC7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0324-BBDF-46F4-9EDC-7077EE48A8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09480" y="609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95373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Hi T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371600" y="190512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58ed5"/>
                </a:solidFill>
                <a:latin typeface="Calibri"/>
              </a:rPr>
              <a:t>Aspose.Slides for .N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7"/>
          <p:cNvGrpSpPr/>
          <p:nvPr/>
        </p:nvGrpSpPr>
        <p:grpSpPr>
          <a:xfrm>
            <a:off x="2324160" y="3608280"/>
            <a:ext cx="6057720" cy="2057400"/>
            <a:chOff x="2324160" y="3608280"/>
            <a:chExt cx="6057720" cy="2057400"/>
          </a:xfrm>
        </p:grpSpPr>
        <p:sp>
          <p:nvSpPr>
            <p:cNvPr id="44" name="Rectangle 5"/>
            <p:cNvSpPr/>
            <p:nvPr/>
          </p:nvSpPr>
          <p:spPr>
            <a:xfrm>
              <a:off x="2324160" y="4037760"/>
              <a:ext cx="3162240" cy="16002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Oval 6"/>
            <p:cNvSpPr/>
            <p:nvPr/>
          </p:nvSpPr>
          <p:spPr>
            <a:xfrm>
              <a:off x="6095880" y="3608280"/>
              <a:ext cx="2286000" cy="2057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Aspose.Slides for 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elc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Hello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13:27:25Z</dcterms:created>
  <dc:creator>Nausherwan Aslam</dc:creator>
  <dc:description/>
  <dc:language>en-US</dc:language>
  <cp:lastModifiedBy>Nausherwan Aslam</cp:lastModifiedBy>
  <dcterms:modified xsi:type="dcterms:W3CDTF">2014-02-21T13:30:45Z</dcterms:modified>
  <cp:revision>1</cp:revision>
  <dc:subject/>
  <dc:title>PowerPoint Presentation</dc:title>
</cp:coreProperties>
</file>