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EB4-1A20-44B7-B1B1-1E8212F4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843-8794-47A8-9EB7-E8D12BF5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DA6-3D1C-4BBA-A925-92428AEF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0AA-660D-4450-8A34-A7123071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E5E-8124-4E5F-880F-01073518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82A-E2FD-4CEF-8269-D980DE24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D8C-7760-4930-8C7C-06638A4A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F15-32A8-4F46-B1FC-D53BA8DB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8C6-AC20-45AB-BCF5-E379381D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901-D577-4B01-9004-77D95471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F04-1DD8-4ED4-B690-5805CCFE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CC9-0D18-4F48-BCAA-D7066BF8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08D1-7F18-40E5-A148-0A44A5187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18:50:15Z</dcterms:created>
  <dc:creator>Serge</dc:creator>
  <dc:description/>
  <dc:language>en-US</dc:language>
  <cp:lastModifiedBy>Сергей</cp:lastModifiedBy>
  <dcterms:modified xsi:type="dcterms:W3CDTF">2021-12-17T16:36:39Z</dcterms:modified>
  <cp:revision>8</cp:revision>
  <dc:subject/>
  <dc:title>No Transition</dc:title>
</cp:coreProperties>
</file>