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938-03FB-49D7-AA39-06215CA0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084-5BD6-4AF4-839D-73DD8E23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111-D350-4A66-A14A-76A5E35C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AED-ABF5-450B-8837-3156F832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D49-27E4-463D-8A17-5BF4CBB4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8B4-E718-494C-8744-CC3C94D7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4F8-723A-4DB8-A3D4-1087F0BB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CEE-772A-41B8-8880-30FEA194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011F-DFD5-4014-99F9-08ACB372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C7D-855C-4FDC-B969-E43CD124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D8C-7DD0-421B-AD2F-B466E643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391-B254-4AA9-AA17-067251F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1BFC-8B9D-4E3D-A25B-4E6992DF1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9480" y="609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Hi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035080" y="12492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4191120" y="5181480"/>
            <a:ext cx="4762440" cy="1398600"/>
            <a:chOff x="4191120" y="5181480"/>
            <a:chExt cx="4762440" cy="1398600"/>
          </a:xfrm>
        </p:grpSpPr>
        <p:sp>
          <p:nvSpPr>
            <p:cNvPr id="44" name="Rectangle 5"/>
            <p:cNvSpPr/>
            <p:nvPr/>
          </p:nvSpPr>
          <p:spPr>
            <a:xfrm>
              <a:off x="4191120" y="5473800"/>
              <a:ext cx="2486160" cy="1087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>
              <a:off x="7156440" y="5181480"/>
              <a:ext cx="1797120" cy="13986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spose.Slides for 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7:25Z</dcterms:created>
  <dc:creator>Nausherwan Aslam</dc:creator>
  <dc:description/>
  <dc:language>en-US</dc:language>
  <cp:lastModifiedBy>Jawad Ahmed</cp:lastModifiedBy>
  <dcterms:modified xsi:type="dcterms:W3CDTF">2016-05-26T12:18:20Z</dcterms:modified>
  <cp:revision>2</cp:revision>
  <dc:subject/>
  <dc:title>PowerPoint Presentation</dc:title>
</cp:coreProperties>
</file>