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A026-019C-49E9-AA4F-06B13A4D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5EA-E430-414B-A882-A89BB0A6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4860-086B-4BD4-A6CC-0A825060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3E0-9238-4764-BE9C-ED9335D7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761-3C8F-410F-A143-5927129C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7042-0D5B-4F34-9932-53634E1B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703F-1280-4D5F-9FFF-594DA279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EDA-85C7-4EC2-95CD-846E280D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BC5E-BC2B-44BF-81A2-E716343F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9E1-397D-42DE-A212-426950E5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C532-34B4-4EE2-A105-1A852FA3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E8C-E94F-47BF-8E07-A84C6C41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ffffff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D260-0D9E-4FA5-A676-82523A1AB7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A569-A89C-40E6-8E47-F07284526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 picture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45DB-F74A-4A54-A8EE-92C57F732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ate and tim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9T10:34:47Z</dcterms:created>
  <dc:creator>AbdulMannan Fazil</dc:creator>
  <dc:description/>
  <dc:language>en-US</dc:language>
  <cp:lastModifiedBy>AbdulMannan Fazil</cp:lastModifiedBy>
  <cp:lastPrinted>2019-09-19T15:34:47Z</cp:lastPrinted>
  <dcterms:modified xsi:type="dcterms:W3CDTF">2019-09-19T12:51:22Z</dcterms:modified>
  <cp:revision>1</cp:revision>
  <dc:subject/>
  <dc:title>PowerPoint Presentation</dc:title>
</cp:coreProperties>
</file>