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53B7-8092-4A9E-9490-E4BCA9AE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8A1D-CFCD-415F-B222-ABC9D95C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D12-1655-439C-B732-4EA05F04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FEF1-A792-48AF-A62D-7EF6444D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036-53D4-4D62-A7EE-AED7CF81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6DE-8BC5-46E5-A5F3-C0652170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6DFC-535C-4607-8EC3-2891A0A7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FD76-07DA-491D-83D2-A06D19CA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865-229C-4732-9835-DE0FDE9F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5099-71C8-4B31-BC92-6ABD2810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2A1-F222-44CF-B4AC-8587F162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9FDD-2415-4AFB-ABCA-7B46E2AD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5A1E-532D-4EC9-A4BB-4826DA9CC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9480" y="609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Hi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371600" y="190512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2324160" y="3608280"/>
            <a:ext cx="6057720" cy="2057400"/>
            <a:chOff x="2324160" y="3608280"/>
            <a:chExt cx="6057720" cy="2057400"/>
          </a:xfrm>
        </p:grpSpPr>
        <p:sp>
          <p:nvSpPr>
            <p:cNvPr id="44" name="Rectangle 5"/>
            <p:cNvSpPr/>
            <p:nvPr/>
          </p:nvSpPr>
          <p:spPr>
            <a:xfrm>
              <a:off x="2324160" y="4037760"/>
              <a:ext cx="3162240" cy="16002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Oval 6"/>
            <p:cNvSpPr/>
            <p:nvPr/>
          </p:nvSpPr>
          <p:spPr>
            <a:xfrm>
              <a:off x="6095880" y="3608280"/>
              <a:ext cx="2286000" cy="2057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7:25Z</dcterms:created>
  <dc:creator>Nausherwan Aslam</dc:creator>
  <dc:description/>
  <dc:language>en-US</dc:language>
  <cp:lastModifiedBy>Nausherwan Aslam</cp:lastModifiedBy>
  <dcterms:modified xsi:type="dcterms:W3CDTF">2014-02-21T13:30:45Z</dcterms:modified>
  <cp:revision>1</cp:revision>
  <dc:subject/>
  <dc:title>PowerPoint Presentation</dc:title>
</cp:coreProperties>
</file>