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78F5-751C-4C7F-9CB8-DC064238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2C95-A350-40EE-9351-AB243FF7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86C-B603-4F83-B75B-E57FFFF3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4D01-52F4-4A49-B8E3-4E83CA07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227A-E1A8-43D1-BB59-D3CD4CE4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8689-4891-4E0F-8BB6-EBBB6516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ED2-F1BF-490B-A467-87464AE9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31A8-FF57-42CB-B70B-53C0F018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C3B-5DAA-4C88-B298-8AA7FA48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3415-03EC-4DA2-89B6-4A4E684C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A900-5C4B-4769-B7FE-52A9822B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A39-9EB1-493F-9FE5-72142AA3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ffffff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2A98-FE59-4777-9DC3-897F796D5A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A6A3-2D9F-47BF-9BDB-6024741EC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 picture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24F9-B05C-4084-9EBB-7A98C8FE8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ate and tim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9T10:34:47Z</dcterms:created>
  <dc:creator>AbdulMannan Fazil</dc:creator>
  <dc:description/>
  <dc:language>en-US</dc:language>
  <cp:lastModifiedBy>AbdulMannan Fazil</cp:lastModifiedBy>
  <cp:lastPrinted>2019-09-19T15:34:47Z</cp:lastPrinted>
  <dcterms:modified xsi:type="dcterms:W3CDTF">2019-09-19T11:20:48Z</dcterms:modified>
  <cp:revision>1</cp:revision>
  <dc:subject/>
  <dc:title>PowerPoint Presentation</dc:title>
</cp:coreProperties>
</file>