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99-93F3-404D-8CF2-30A9F710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FD8-7B89-4EF2-ADC7-2A6D0790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11F-D062-4433-AD57-964500E4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054-2D82-4120-8F37-83F2986F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FF2-AE10-4545-8DC2-21B66ED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DEC-DC41-41E5-94B9-B0857BEE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74B-04CD-4B5C-B885-B9429B8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394-139A-42DA-A771-B7087C5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8F2-81BC-4E7F-A839-770628A1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632-D778-4DF7-8D7C-62681DD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F4F-284A-4E1D-B458-7BC2D90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352-DB6D-498D-917A-24D2A036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D88-B200-45B2-970E-9D8D3F82C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65D-A492-4ACA-AF42-3E45A75D7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834-1A1E-4E84-93FD-389184144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2:51:22Z</dcterms:modified>
  <cp:revision>1</cp:revision>
  <dc:subject/>
  <dc:title>PowerPoint Presentation</dc:title>
</cp:coreProperties>
</file>