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8DBB-B58B-4F89-B535-EEAD632CC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4338-4B84-479D-A78A-7C76F3CF0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33FF-126D-4AB2-9376-CBDF1CB59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1EE2-3D31-4670-B153-C4351A87A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AB19-58FE-4C9E-B760-42E6BF994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A94C-E1C5-4FFC-BA7B-25B56E6BC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1199-A4C3-4403-B81D-E7DC3D18F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82EE-883C-4D69-A1F7-A58627DBC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30BC-973F-46E9-AEBE-442D3868C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CDFB-0BCF-4032-B1F1-E042A21E2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5D2B-D615-44BC-A90F-1940ABFC1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6330-8EEA-48E8-A1E7-32F3F4F27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3F84E-6DD3-4219-8153-014AD21B75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609480" y="60948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953735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53735"/>
                </a:solidFill>
                <a:latin typeface="Calibri"/>
              </a:rPr>
              <a:t>Hi T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1371600" y="1905120"/>
            <a:ext cx="6019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58ed5"/>
                </a:solidFill>
                <a:latin typeface="Calibri"/>
              </a:rPr>
              <a:t>Aspose.Slides for .NE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" name="Group 7"/>
          <p:cNvGrpSpPr/>
          <p:nvPr/>
        </p:nvGrpSpPr>
        <p:grpSpPr>
          <a:xfrm>
            <a:off x="2324160" y="3608280"/>
            <a:ext cx="6057720" cy="2057400"/>
            <a:chOff x="2324160" y="3608280"/>
            <a:chExt cx="6057720" cy="2057400"/>
          </a:xfrm>
        </p:grpSpPr>
        <p:sp>
          <p:nvSpPr>
            <p:cNvPr id="44" name="Rectangle 5"/>
            <p:cNvSpPr/>
            <p:nvPr/>
          </p:nvSpPr>
          <p:spPr>
            <a:xfrm>
              <a:off x="2324160" y="4037760"/>
              <a:ext cx="3162240" cy="16002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Oval 6"/>
            <p:cNvSpPr/>
            <p:nvPr/>
          </p:nvSpPr>
          <p:spPr>
            <a:xfrm>
              <a:off x="6095880" y="3608280"/>
              <a:ext cx="2286000" cy="205740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58ed5"/>
                </a:solidFill>
                <a:latin typeface="Calibri"/>
              </a:rPr>
              <a:t>Aspose.Slides for .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Welco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libri"/>
              </a:rPr>
              <a:t>Hello Wor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1T13:27:25Z</dcterms:created>
  <dc:creator>Nausherwan Aslam</dc:creator>
  <dc:description/>
  <dc:language>en-US</dc:language>
  <cp:lastModifiedBy>Nausherwan Aslam</cp:lastModifiedBy>
  <dcterms:modified xsi:type="dcterms:W3CDTF">2014-02-21T13:30:45Z</dcterms:modified>
  <cp:revision>1</cp:revision>
  <dc:subject/>
  <dc:title>PowerPoint Presentation</dc:title>
</cp:coreProperties>
</file>