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309-B9CE-4EEA-9B03-8E815B12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94D-7F48-4B51-82DE-FFB15ED2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14D-088F-44E1-8EAE-EBFC4F7A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BD2-A740-4297-AC6F-D9E06F66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CE5-3A45-4CAA-83B7-13EE304C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92D-D567-4C5A-A5A3-E934569D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51C-F8A6-44C4-96E1-57EB1705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100-203E-452A-96EC-3C89725E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522-549A-4F27-B754-A7DD325F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A51-48DE-497A-AD4A-9F077A9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BB5-5BDE-48D3-87AE-0C309EF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F56-413B-4A51-BE58-4496545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1EA-93D2-4F67-9CEA-156FB6D56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371600" y="19051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2324160" y="3608280"/>
            <a:ext cx="6057720" cy="2057400"/>
            <a:chOff x="2324160" y="3608280"/>
            <a:chExt cx="6057720" cy="2057400"/>
          </a:xfrm>
        </p:grpSpPr>
        <p:sp>
          <p:nvSpPr>
            <p:cNvPr id="44" name="Rectangle 5"/>
            <p:cNvSpPr/>
            <p:nvPr/>
          </p:nvSpPr>
          <p:spPr>
            <a:xfrm>
              <a:off x="2324160" y="4037760"/>
              <a:ext cx="3162240" cy="16002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6095880" y="3608280"/>
              <a:ext cx="2286000" cy="2057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Nausherwan Aslam</cp:lastModifiedBy>
  <dcterms:modified xsi:type="dcterms:W3CDTF">2014-02-21T13:30:45Z</dcterms:modified>
  <cp:revision>1</cp:revision>
  <dc:subject/>
  <dc:title>PowerPoint Presentation</dc:title>
</cp:coreProperties>
</file>