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B3A-20E0-490B-8352-90B71AED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1AA-636B-47F5-A599-0F5172B7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549-A65C-45F5-9FEC-DAA39BBA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239-882F-4357-80EF-BCDE1B16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82A-443A-47C0-951D-0731C132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6AF-7BBA-4F9D-9E33-D36FFEAE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706-F932-40C9-8B00-A218A5A7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F3C-3778-4661-9981-272853F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629-DBA8-40D5-A077-714B9A9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B99-BFCC-42BB-9651-A205961C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490-7B9D-4B2A-B80A-EB199FD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94B-2132-4084-AE91-B1B62DA8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9C6-A1AB-418D-BA85-501CF6BFC6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46A4-729F-4192-A575-C9E400532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095D-898D-411E-93D1-FC4EA6AFE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1:20:48Z</dcterms:modified>
  <cp:revision>1</cp:revision>
  <dc:subject/>
  <dc:title>PowerPoint Presentation</dc:title>
</cp:coreProperties>
</file>