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FFF-4723-444D-B7F1-0C53F700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ED3-28FE-49D4-835F-C560582B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BCC-1471-4132-A553-65C61486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D2F-BE3E-45B2-B2EA-DD1662D3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638-C8FE-430C-B340-FFF0B3E8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B03-4EDC-449D-B30D-BA3F178B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F73-391D-4E82-A48C-AF28DC2A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C18-A049-46A5-800C-5743275B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F6A-F028-4B4B-9547-8B0808FD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93C-3C65-44B6-B415-44ED791D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90B-D6D0-4916-BF8F-CFDA00D8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80B-9650-426B-AACA-872E6F3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0A1655-6E47-4CBA-9D6D-4705B95181E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Paragraphs>0</Paragraphs>
  <Company>Our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emplate Category</cp:category>
  <cp:contentType>Template Content</cp:contentType>
  <dcterms:created xsi:type="dcterms:W3CDTF">2006-08-16T00:00:00Z</dcterms:created>
  <dc:creator>Template Author</dc:creator>
  <dc:description>Created from template</dc:description>
  <cp:keywords>Keyword1 Keyword2 Keyword3</cp:keywords>
  <dc:language>en-US</dc:language>
  <cp:lastModifiedBy>skvtor</cp:lastModifiedBy>
  <dcterms:modified xsi:type="dcterms:W3CDTF">2013-03-29T14:47:07Z</dcterms:modified>
  <cp:revision>6</cp:revision>
  <dc:subject>Template Subject</dc:subject>
  <dc:title>Templat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