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AA1-F08F-4514-9452-AA1CEBA9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C73-2A26-416B-ADA4-2CF8EA50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998-7811-4181-9515-64032C45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5BB-D462-420A-ADC0-71906531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8A2-8645-4523-BF67-5B95BB0B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4E4-7422-49E7-B08A-5FB87B1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F91-B240-4112-9A45-30B89E7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DEB-1E86-4DF3-82B8-8CA06167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49B-48C4-47C6-995F-7AEF71E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B2-B926-41EC-B061-A1C87C2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D9E-E5D2-44C1-8437-80586D3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A7C-AF3D-4F05-9F21-BD6C712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83A4-0FFC-4A14-A915-4B2C31663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8:50:15Z</dcterms:created>
  <dc:creator>Serge</dc:creator>
  <dc:description/>
  <dc:language>en-US</dc:language>
  <cp:lastModifiedBy>Сергей</cp:lastModifiedBy>
  <dcterms:modified xsi:type="dcterms:W3CDTF">2021-12-17T16:36:39Z</dcterms:modified>
  <cp:revision>8</cp:revision>
  <dc:subject/>
  <dc:title>No Transition</dc:title>
</cp:coreProperties>
</file>