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94A3-5479-4F8A-B36D-3431E3BE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09040" y="10342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92B3-988C-4C94-BB8D-626CDCA2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2608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09040" y="1034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26080" y="1034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E526-086A-45B4-B50A-6C492944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91480" y="7977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73920" y="7977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09040" y="10342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091480" y="10342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73920" y="10342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E2E9-03EA-4B43-B8F0-7C3C6F18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09040" y="7977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0ACA-1004-4570-8C11-149535F8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5E56-D291-4F19-A63E-79D5AA5F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26080" y="7977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148F-1E21-4D95-9545-3BCD4DDC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19AD-1163-46AF-840F-9DD4E96B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00320" y="4960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FA32-FC18-49F4-9C27-4E7DD682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26080" y="7977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09040" y="1034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3723-3329-4F1D-BCF5-17CCCFBA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2608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26080" y="1034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2BEE-C3C5-4182-B189-0D3E6A0D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2608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09040" y="10342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A762-01D4-485E-94E1-E4C43E29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 rot="16200000"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</a:tabLst>
            </a:pPr>
            <a:fld id="{F06EBB01-BD82-4738-9F2A-709A3390EB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3FD1082B-48B6-42F8-AE83-28278A662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ew picture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New shape"/>
          <p:cNvSpPr/>
          <p:nvPr/>
        </p:nvSpPr>
        <p:spPr>
          <a:xfrm>
            <a:off x="127080" y="127080"/>
            <a:ext cx="2539800" cy="3174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Sample tex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Sample text </a:t>
            </a:r>
            <a:r>
              <a:rPr b="0" lang="en-US" sz="4800" spc="-1" strike="noStrike">
                <a:solidFill>
                  <a:srgbClr val="4f81bd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28T12:21:07Z</dcterms:created>
  <dc:creator/>
  <dc:description/>
  <dc:language>en-US</dc:language>
  <cp:lastModifiedBy/>
  <cp:lastPrinted>2019-06-28T17:21:07Z</cp:lastPrinted>
  <dcterms:modified xsi:type="dcterms:W3CDTF">2019-09-19T12:50:54Z</dcterms:modified>
  <cp:revision>1</cp:revision>
  <dc:subject/>
  <dc:title/>
</cp:coreProperties>
</file>