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409D-827A-4BE6-8986-ECFB76B85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2D98-A344-4608-AE32-8D6ACA264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1D8D-45CF-4045-9353-6C696D9B3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5D8D-5E60-4F48-A26F-2B7E0E5D8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C182-F264-4AE2-A3B2-648AE3A7A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86C6-6ED0-4674-803D-4BC3B76CF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E96E-36B2-4F6A-8752-3FB74AB0C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E5B8-21D6-43BA-AF44-444579807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C92B-F311-4BAA-A877-4D33D67F5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96C0-62C5-40DE-AEA2-FFC69A10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3980-DD09-4180-94A9-2B4FC231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BFD8-2902-42E4-A289-97408E82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CFA13-57BF-47D2-8950-A2B8014813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609480" y="6094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953735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53735"/>
                </a:solidFill>
                <a:latin typeface="Calibri"/>
              </a:rPr>
              <a:t>Hi T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1371600" y="1905120"/>
            <a:ext cx="601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58ed5"/>
                </a:solidFill>
                <a:latin typeface="Calibri"/>
              </a:rPr>
              <a:t>Aspose.Slides for .NE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Group 7"/>
          <p:cNvGrpSpPr/>
          <p:nvPr/>
        </p:nvGrpSpPr>
        <p:grpSpPr>
          <a:xfrm>
            <a:off x="2324160" y="3608280"/>
            <a:ext cx="6057720" cy="2057400"/>
            <a:chOff x="2324160" y="3608280"/>
            <a:chExt cx="6057720" cy="2057400"/>
          </a:xfrm>
        </p:grpSpPr>
        <p:sp>
          <p:nvSpPr>
            <p:cNvPr id="44" name="Rectangle 5"/>
            <p:cNvSpPr/>
            <p:nvPr/>
          </p:nvSpPr>
          <p:spPr>
            <a:xfrm>
              <a:off x="2324160" y="4037760"/>
              <a:ext cx="3162240" cy="16002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Oval 6"/>
            <p:cNvSpPr/>
            <p:nvPr/>
          </p:nvSpPr>
          <p:spPr>
            <a:xfrm>
              <a:off x="6095880" y="3608280"/>
              <a:ext cx="2286000" cy="20574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Aspose.Slides for 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Welco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Hello Wor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13:27:25Z</dcterms:created>
  <dc:creator>Nausherwan Aslam</dc:creator>
  <dc:description/>
  <dc:language>en-US</dc:language>
  <cp:lastModifiedBy>Nausherwan Aslam</cp:lastModifiedBy>
  <dcterms:modified xsi:type="dcterms:W3CDTF">2014-02-21T13:30:45Z</dcterms:modified>
  <cp:revision>1</cp:revision>
  <dc:subject/>
  <dc:title>PowerPoint Presentation</dc:title>
</cp:coreProperties>
</file>