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7F95-AAAE-4FB1-A31C-8C07B8815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8B26-CB59-46E3-8AA4-A50C1C9CD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D032-9261-4C56-8CF3-C108AD794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54F3-DB46-4227-9856-D2CB175ED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5BC5-B210-42D9-8809-A04029B3E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FF96-85E8-45FC-9E1F-0B4334B8E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399E-5485-4CCE-8F40-A457137A4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3C73-FC30-42AE-99CC-D58F67820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A80F-D317-4AD7-885E-0724C8D69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C124-6ED6-4A52-9393-81496A8D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2F53-BECF-404C-9A79-8A3DBEFD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3E64-7069-407E-A0E1-A41BDA28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0CEDF-AF88-4DD2-9946-343A19444A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609480" y="6094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953735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53735"/>
                </a:solidFill>
                <a:latin typeface="Calibri"/>
              </a:rPr>
              <a:t>Hi T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2035080" y="1249200"/>
            <a:ext cx="601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58ed5"/>
                </a:solidFill>
                <a:latin typeface="Calibri"/>
              </a:rPr>
              <a:t>Aspose.Slides for .NE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Group 7"/>
          <p:cNvGrpSpPr/>
          <p:nvPr/>
        </p:nvGrpSpPr>
        <p:grpSpPr>
          <a:xfrm>
            <a:off x="4191120" y="5181480"/>
            <a:ext cx="4762440" cy="1398600"/>
            <a:chOff x="4191120" y="5181480"/>
            <a:chExt cx="4762440" cy="1398600"/>
          </a:xfrm>
        </p:grpSpPr>
        <p:sp>
          <p:nvSpPr>
            <p:cNvPr id="44" name="Rectangle 5"/>
            <p:cNvSpPr/>
            <p:nvPr/>
          </p:nvSpPr>
          <p:spPr>
            <a:xfrm>
              <a:off x="4191120" y="5473800"/>
              <a:ext cx="2486160" cy="10879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Oval 6"/>
            <p:cNvSpPr/>
            <p:nvPr/>
          </p:nvSpPr>
          <p:spPr>
            <a:xfrm>
              <a:off x="7156440" y="5181480"/>
              <a:ext cx="1797120" cy="13986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Aspose.Slides for 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Welco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Hello Wor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13:27:25Z</dcterms:created>
  <dc:creator>Nausherwan Aslam</dc:creator>
  <dc:description/>
  <dc:language>en-US</dc:language>
  <cp:lastModifiedBy>Jawad Ahmed</cp:lastModifiedBy>
  <dcterms:modified xsi:type="dcterms:W3CDTF">2016-05-26T12:18:20Z</dcterms:modified>
  <cp:revision>2</cp:revision>
  <dc:subject/>
  <dc:title>PowerPoint Presentation</dc:title>
</cp:coreProperties>
</file>