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01A-DD99-44FC-B666-17937706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7B7-9F6D-4E74-BD69-30CEFDD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682-847B-4A3C-8533-BA187C0D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81A-EDA5-40A4-A0A7-EBC1930F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D5C-534B-4E8C-B073-C9EF64C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031-375E-438D-8FD5-38ED67FD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C92-7C5B-4345-90A7-B80AA441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CC2-E0B2-481A-AD6D-48C5CD7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0AC-C9F1-4E03-97EA-BAB6333A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188-D41A-4E07-B3F5-DF41075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E8F-9686-40E9-93E2-8246D46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666-1338-4360-9BF4-0DB802D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1C13A238-93E8-4BB4-993E-E6819F541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B6DB718-6F60-4EC2-897F-6535B2E81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New shape"/>
          <p:cNvSpPr/>
          <p:nvPr/>
        </p:nvSpPr>
        <p:spPr>
          <a:xfrm>
            <a:off x="127080" y="127080"/>
            <a:ext cx="2539800" cy="317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 </a:t>
            </a:r>
            <a:r>
              <a:rPr b="0" lang="en-US" sz="4800" spc="-1" strike="noStrike">
                <a:solidFill>
                  <a:srgbClr val="4f81bd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8T12:21:07Z</dcterms:created>
  <dc:creator/>
  <dc:description/>
  <dc:language>en-US</dc:language>
  <cp:lastModifiedBy/>
  <cp:lastPrinted>2019-06-28T17:21:07Z</cp:lastPrinted>
  <dcterms:modified xsi:type="dcterms:W3CDTF">2019-09-19T12:50:54Z</dcterms:modified>
  <cp:revision>1</cp:revision>
  <dc:subject/>
  <dc:title/>
</cp:coreProperties>
</file>