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2A9-F355-4FD2-9667-BF6FCCA7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D5D-3CA4-4611-8B31-5D42CB6A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0B5-A0D4-4A5C-9E04-7BC1F7FD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A6B-2359-473B-8BA7-F99CBC6C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7EC-25AE-4D88-B815-1FF6691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DE7-270B-4837-A51A-127872A8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AC6-9DF2-4E53-9DC1-854632C1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62C-C98A-4DBE-943A-AEB61060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F0F-51F6-4970-BED3-74C1D7A8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E28-3057-492F-948A-672E42D7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E53-784D-4903-A557-943546D0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E59-E0F6-4906-B111-3401658F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70F686-A179-4E48-BBFC-38012BA8122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Paragraphs>0</Paragraphs>
  <Company>Our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emplate Category</cp:category>
  <cp:contentType>Template Content</cp:contentType>
  <dcterms:created xsi:type="dcterms:W3CDTF">2006-08-16T00:00:00Z</dcterms:created>
  <dc:creator>Template Author</dc:creator>
  <dc:description>Created from template</dc:description>
  <cp:keywords>Keyword1 Keyword2 Keyword3</cp:keywords>
  <dc:language>en-US</dc:language>
  <cp:lastModifiedBy>skvtor</cp:lastModifiedBy>
  <dcterms:modified xsi:type="dcterms:W3CDTF">2013-03-29T14:47:07Z</dcterms:modified>
  <cp:revision>6</cp:revision>
  <dc:subject>Template Subject</dc:subject>
  <dc:title>Templat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