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33AD-02D2-4762-AD89-7FB3B43D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30D-FD0F-426A-810A-E3DCCCBA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500-5A82-4AB2-96E1-0D9EABBF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C38-0650-43DF-A367-FE284A59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9F2-65BE-4B2A-89B3-52FB5A89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2ED-CA24-4073-914A-54952E6D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7DA-CB8B-4CD2-9763-93D5232C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1DD-D2A1-4D99-8EEC-EC7F6F6C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78F-DBA1-4B89-88D1-F7F655A4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184-2F8D-407B-B3C0-8C5B37FF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39A-3DC7-4D06-A9D6-2988DC91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CC9-B7B3-4BFB-83A4-A58F76DD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ffffff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4A2B-169C-449C-A912-B2736DDE32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FD6E-DDED-4964-B522-19DA8CE08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C2E4-7289-4D34-9210-9F8B392D1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ate and tim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9T10:34:47Z</dcterms:created>
  <dc:creator>AbdulMannan Fazil</dc:creator>
  <dc:description/>
  <dc:language>en-US</dc:language>
  <cp:lastModifiedBy>AbdulMannan Fazil</cp:lastModifiedBy>
  <cp:lastPrinted>2019-09-19T15:34:47Z</cp:lastPrinted>
  <dcterms:modified xsi:type="dcterms:W3CDTF">2019-09-19T12:51:22Z</dcterms:modified>
  <cp:revision>1</cp:revision>
  <dc:subject/>
  <dc:title>PowerPoint Presentation</dc:title>
</cp:coreProperties>
</file>