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56B8-6303-4AD6-8485-3504E38A8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AECA-95CE-4724-88C0-6BF39D9F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7617-3A68-43CB-9046-3A631AEC3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909E-1436-49F8-A2FD-446D47343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A0E2-AC33-4361-AFB7-799E7CB8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A07C-1182-4BE2-994F-9BAEB27D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03BE-5E4F-420D-B2D6-F8E1A562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DF55-731C-4495-9AF6-55032AEE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F55A-DFA2-48AB-BFC7-80C43748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9EB2-DDF5-4A18-8BB2-FAF8E968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8942-F708-4237-ABAA-88BBF177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8003-BCEB-4C03-9F41-AA306F89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C5D1-3496-4AEB-BA0D-485096430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2:58:26Z</dcterms:created>
  <dc:creator>Muhammad Iqbal</dc:creator>
  <dc:description>This presentation is a sample Aspose presentation.</dc:description>
  <cp:keywords>demo example</cp:keywords>
  <dc:language>en-US</dc:language>
  <cp:lastModifiedBy>Shoaib</cp:lastModifiedBy>
  <dcterms:modified xsi:type="dcterms:W3CDTF">2014-03-18T17:06:37Z</dcterms:modified>
  <cp:revision>10</cp:revision>
  <dc:subject>Demo Presentation</dc:subject>
  <dc:title>Sample 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1">
    <vt:lpwstr>Value1</vt:lpwstr>
  </property>
  <property fmtid="{D5CDD505-2E9C-101B-9397-08002B2CF9AE}" pid="3" name="Custom2">
    <vt:lpwstr>Value2</vt:lpwstr>
  </property>
  <property fmtid="{D5CDD505-2E9C-101B-9397-08002B2CF9AE}" pid="4" name="Custom3">
    <vt:lpwstr>Value3</vt:lpwstr>
  </property>
</Properties>
</file>